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63675"/>
        <c:axId val="3066792"/>
      </c:barChart>
      <c:catAx>
        <c:axId val="10363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6792"/>
        <c:crosses val="autoZero"/>
        <c:auto val="1"/>
        <c:lblAlgn val="ctr"/>
        <c:lblOffset val="100"/>
        <c:noMultiLvlLbl val="0"/>
      </c:catAx>
      <c:valAx>
        <c:axId val="3066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3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8D0-11A3-4AD2-B06E-99730FDD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089-8FB9-42B1-8A6E-1FCF4DAB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D23-39F9-48A7-910D-D8B45C90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83C-C8A6-41AA-963A-08B0CCE5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958-C47B-44BC-B44F-9EFC6767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17B-4BF8-44B4-8BCE-3D0B6328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C6A-9E62-4CBF-861C-254CF2B1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BA2-989B-4C73-A039-3696A6CE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ADF-02F8-451E-9381-0E6B5B6E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484-D6E0-48E1-83C7-80A1B136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926-78B8-45E8-BED9-305E2078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62B-3B19-48FD-8E26-989DFE5C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F81CA-8995-400B-8227-D977A29943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