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96742"/>
        <c:axId val="27090460"/>
      </c:barChart>
      <c:catAx>
        <c:axId val="82596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90460"/>
        <c:crosses val="autoZero"/>
        <c:auto val="1"/>
        <c:lblAlgn val="ctr"/>
        <c:lblOffset val="100"/>
        <c:noMultiLvlLbl val="0"/>
      </c:catAx>
      <c:valAx>
        <c:axId val="27090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96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414-A3BE-4FCA-8FDA-67CBA760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D1D-530D-4729-BC86-40E8CBE0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0BB-622B-4F27-AA94-F2828408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CD2-9A3A-4FAE-B48B-A4BB68D7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09A-A3B5-43EC-A19F-71F24AD0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840-1AB3-4986-BFE3-E95DC018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448-9F35-42F6-978F-9F878507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2D0-A074-4DB4-A266-C458E00E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88B-9987-41F7-ACA6-0045B6D9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BA4-AD78-4213-ACE6-D1A2989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9F6-2B6C-4EFC-963F-4906A5C6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3B0-DF97-4F36-AAD6-8F9F21C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D40B3-1682-43AC-8893-4F4C5AA93A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