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68875"/>
        <c:axId val="70624671"/>
      </c:barChart>
      <c:catAx>
        <c:axId val="44368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4671"/>
        <c:crosses val="autoZero"/>
        <c:auto val="1"/>
        <c:lblAlgn val="ctr"/>
        <c:lblOffset val="100"/>
        <c:noMultiLvlLbl val="0"/>
      </c:catAx>
      <c:valAx>
        <c:axId val="70624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68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765-2272-4D6B-A388-39A9056F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1FC-F724-46BA-899F-97BC0E2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85D-48FA-47A8-8F4C-257CE077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1F4-81E5-400D-843B-5F576739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584-1601-49BF-9C0E-52D25F02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5D4-30E7-44D6-84E7-38DED9C4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964-85A1-4F9A-9FC8-F7CC685E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EF1-4443-46BF-A726-8AEA9AC1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297-60E7-426C-BBAC-1B3F87B7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CDF-C29E-431C-9822-A9DA7D15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1ED-E3EE-4CE7-BDA8-CFAF1373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77D-8665-42B2-9386-4D86AEA7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02AE4-6AEC-4464-85BC-F6027794C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