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67543"/>
        <c:axId val="50220546"/>
      </c:barChart>
      <c:catAx>
        <c:axId val="92167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0546"/>
        <c:crosses val="autoZero"/>
        <c:auto val="1"/>
        <c:lblAlgn val="ctr"/>
        <c:lblOffset val="100"/>
        <c:noMultiLvlLbl val="0"/>
      </c:catAx>
      <c:valAx>
        <c:axId val="5022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67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309-6132-42E3-A003-C0EBD68B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347-F271-4C84-AEBE-BF3FD35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652-642A-41D0-8E5D-960B52E1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4F0-BAF0-4941-95E2-1ACE78A8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55E-3B1F-49F7-9975-B8E2A0E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1E1-2910-4A2C-9823-06FC529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882-3B39-434F-B095-4B0FB03A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829-B697-4905-B14B-2BABA1E2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62A-A80D-496E-A637-8DB5B33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8CB-D365-4294-9012-D2F162F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B5A-9C1A-4B6A-A61E-07059EE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1C4-62F7-4E4D-B02D-384CE44B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F666C-17AB-4811-B48A-D0C0549F8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