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8D0A5-6CAA-4CDD-AFE9-0336AB9B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FB792-74E5-4FC5-888F-80245F2A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BE369-C307-4399-9C80-260C58AC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BE77-8289-40DA-96F5-DAB26205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5313B-883C-4244-98F4-3E76AB3D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0B69C-0A51-40C4-BE7C-FDE82962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F08DF-D0AF-4DE4-A71E-D1400761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05B83-B546-43F3-8083-59AA5399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E759F-2EAF-4427-9B00-6EAC57F4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C2BD6-C1EB-40F1-8E6C-AEEBBF82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A5B71-FB5A-4B57-859F-181FFAD6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88CA4-4BE0-4E2C-9586-2D6D3058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E44C3AC9-9B18-4BE4-9900-AB4AB1161EC4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9 - Intern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Path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fs_fill_su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e a bhv_vfs struct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fs_alloc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initial behaviour module chain, for all bhv_modules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hv_insert_all_vfs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 mount options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hv_vfs_parsear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the end of this we have the final behaviour chain – e.g. if quota is not in use, its removed itself from the chai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bhv_remove_vfso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mount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hv_vfs_mou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base XFS behaviour, we read the primary superblock, setup per-fs structures, does log recovery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quota behaviour, we do the quotacheck and dquot re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1DBDB-F31A-43B3-8819-CE94B8A067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-Tre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1440" y="1476360"/>
            <a:ext cx="9146880" cy="390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C6F71-4D09-47E7-AD26-3BCF8BF992A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 and Directory Opera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B6FBA-E2FD-44C8-A8E4-4D452EA81B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name Looku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85B20-83B9-41E1-8E07-6B4D69CB0F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Creating a new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5617-2146-4484-97B5-28B6A63824F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ng a new inod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A8D67-5F72-4209-8A86-D53D7E8544E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dding name to director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D1613-2E3B-43B3-ACCF-274C03B73B0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Changing file attribut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91052-47DF-4D49-87A3-228FC5DCA84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riting to a new file / Appending to an existing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EDF0-EA69-4C5D-BD30-BC7308B3544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ding from a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73EE4-FF38-4AE9-BC13-B65166E229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XFS Architectu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Nathan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9AE98-8BDB-4AE3-AF5E-F7E38A55376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eek and write to create a ho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9033A-E3DE-429C-807A-2C83C3A9C01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d and write to a ho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D50D9-CD8B-4892-83C0-8A87F5A70E3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uncate a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6CEE-16E6-4524-A488-70B81950513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pace Allo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mapi / xfs_bmap_alloc  (the root of all evil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MAP interf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extent map for rea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delay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ctual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 unwritten extents to written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space allo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space B+Trees (“dat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map_btal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space bitmaps (“realtim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map_rtal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: stripe unit/width size/align, di_ext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6CBE3-F395-4475-A737-AA1B4890B49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emory Allo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been a source of problems on the Linux XFS port, it is much improved now, how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 was very good at ensuring memory allocations succeeded, XFS written on IRIX... you do the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rocess flag added into Linux XFS zone (slab) allocation routines that make the allocator aware of memory allocations from within a trans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A4EBC-7A0A-4D29-A561-3D15E71E183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etadata Buffer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uf.c and xfs_buf.h implements the XFS metadata buffer cache on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page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“pinnin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ral “private” buffer poi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ing, iodone semaphore for I/O wai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backs for: iodone, relse, pre-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core log buffers also implemented via xfs_buf_t and this causes some oddities in there – sub-buffer-sized I/Os, non-page-cache buffer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address_space from b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4D539-13D3-4A31-94F3-0BCD94E9D29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etadata I/O Comple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logd/N (per-CPU daem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s that handle I/O completion work for iclog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log_state_do_callbacks – runs multiple completions, depends on what was logged inside this iclog buff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lso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s_buf_do_callbacks – typically, removing from AIL and freeing up buffer_item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datad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cover later, in the I/O path 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sort of idea th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E412-7905-4573-A82F-7E7D5EFA65C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Delayed write buff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bu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rnel thread, one per filesystem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lks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fs_buftarg_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“buffer target”) hash table finding delayed write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s timestamped when queu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tweak the age at which unpinned and dirty metadata buffers will be considered for flu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proc/sys/fs/xfs/age_buffer_centise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able daemon wakeup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proc/sys/fs/xfs/xfsbufd_centise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35ECE-F0CD-447C-9FEC-4E281A66A01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/O Path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and write family of sys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buffered and direct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lrw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 locking (i_mutex/iolock/i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write reserves space only, allocation at writeout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_block_t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ode, iblock, buffer_head, “create” fla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buffer_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_state, b_blocknr, b_size, 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50714-5AD8-479E-A44F-C8861B2DA5C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sync(2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implements an optimisation to sync(2) of meta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will only force the log out, such that any dirty metadata that is incore is written to the log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the metadata itself i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cessarily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safe, since all change is o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data is guaranteed too (even barrie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ze/thaw, remount,ro and unmount do guarantee both log and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li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been bitten in the past, but fixed nowa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FD8F6-8402-4A29-9709-5C3C65B4394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vnodeo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FS system call interfaces are mapped to xfs functions in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_vnode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s/xfs/xfs_vnodeops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_vnodeop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open, close, fid, read, write, sendfile, splice, fsy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ile descri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getattr, setat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ode attributes - stat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ttr_get, attr_set, attr_list, attr_rem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ccess, look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ode permissions/ex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e, remove, symlink, read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gular files, specia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addir, mkdir, rmdir, rmdir, link, re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claim, release, inactive, iflush, bmap, flush_pages, flush_inval_pages, toss_p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ode / page cache state and/o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72DE8-69DB-4048-894D-F9818999A5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Data writeou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by the VM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aops.c::xfs_vm_writepag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aops.c::xfs_page_state_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cache pages attached to inodes via a radix-tree (2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ode-&gt;i_mapping and page-&gt;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does its own writeout, sort of (due to delayed allocation and unwritten ext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 through 2.6 writepag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ll use buffer_heads for per-fsbno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ioend_t - goes direct-to-bio for actual write, with &gt;1 page at a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E03F8-08BB-4B07-93EC-2EF86E70406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ansa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= xfs_trans_alloc(typ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= xfs_trans_reserve(tp, data, log, rt, ..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make changes, allocate space, free spac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 superblock/inode(s)/buffers/... to transaction, logging ranges within these objects, typically, e.g. v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trans_log_inode(tp, ip, XFS_ILOG_COR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= xfs_trans_commit(t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65671-BA24-4CD0-AC56-02FD8387116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135920" cy="531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06EE5-5C9A-4589-A172-27AFFAD94245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CA7CD-700F-40D7-9783-843CB748792A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explain important vnode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F5C63-8972-4ADE-A085-976DC7CA33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ct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specific system calls (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ctl()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) are dispatched by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_ioct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s/xfs/xfs_fs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s/xfs/linux-2.6/xfs_ioctl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metry, fscounts, [get|set]resblks, shutdown, freeze/th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system level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[fs|fslog|fsr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system size (and maximum inode count) expa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get|set]xflags, fs[get|set]xattr, fs[get|set]xattra, dio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de attribut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I/O parameters (min/max/al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csp, freesp, resvsp, unresv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llocation and/or preal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lks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(sequential) inode's attributes – stat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sdump, quotacheck, 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-handle (open, fd-to-, path-to-, readlink, attrlist, attrmulti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ulating inodes by “handles” (inum/igen/f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bmap, getbmapa, swap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de data/attr fork exten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3B6B6-F2F2-4860-B64A-AACAC68617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explain important xfsct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2DA97-A81C-42B5-A88D-2A3B26026B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ysct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usr/src/linux/Documentation/fs/xfs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ix_symlink_m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links get mode 0777 by defau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ix_sgid_inher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gid bit always inherited regardless of process g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symlin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t inherit symbol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_chow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wn restricted to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torste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files in AG before rotating to next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_quo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kernel module on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_io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kernel module on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_dmap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kernel moduel on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_buffer_centise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 of buffered data before flu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syncd_centise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often xfssyncd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bufd_centise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often xfsbufd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a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no accesstime tracking in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dum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nodump flag in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syn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nosync flag in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_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XFS error handling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ic_m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XFS panic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5B6CA-FC90-4A66-8AD8-10062D338B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ntry-stat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directory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unused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claim &gt;secs when short o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 Calling shrink_dcache_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-max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ximum number of files system 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-n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file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files i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x number of files system 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ode-stat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active i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free inode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 # &gt; inode-max so prune inod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ode-n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ame as inode-state first two v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EC9C8-D68B-49DE-B81F-3ED23F8AA1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ehaviou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27080" y="1905120"/>
            <a:ext cx="7096320" cy="345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E69D7-A73B-464F-A1F4-7C6F75EFBB5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2:32Z</dcterms:modified>
  <cp:revision>338</cp:revision>
  <dc:subject/>
  <dc:title>Possible CXFS Administration and Monitoring Interfaces</dc:title>
</cp:coreProperties>
</file>