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020B4-B40C-46DF-9B4B-294853629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7C02A-A74A-4215-BA78-6FF14CAAD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2C06C-1469-43FA-AE66-B2E37B522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08A16-60F1-4728-AE83-0EA70EF80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6F6B9-1DE2-4CAE-9F35-74407EB1E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08CD0-D6A4-41CA-8011-299117F47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4164D-F4F0-4D5B-B894-77B43B2B9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93396-64F2-4356-8E16-6E1CBDB49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3AE92-E245-40A5-A8D6-31B171B7A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8B6A7-3785-450C-B4D4-6DE1DE9D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100E3-6034-4A12-A1B0-D7BC6727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ECD48-8FF2-4EF1-A385-AA9CBE12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EBC98B82-7BC9-43F5-AF98-07EA162812AA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11 - Dump and Resto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dump – Resuming Dump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00852-0122-47D0-B7AC-35B39DB9A44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dump – Querying Dump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F0A25-9DDC-4A6B-8C82-CD3B3AF3AF7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restore – Local Tap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CE662-A4F5-43AD-A64D-7945440389D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restore – Remote Tap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EE7D2-7E57-459A-9F1F-3CBD1251A0D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restore – Restore from Fil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181F6-1689-4E36-910A-69AD7F0543E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restore - Interactiv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96576-B6F8-4216-B07B-E19672C26E5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restore – Cumulativ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B203C-5307-4CE2-A45C-1A5A0FECCDB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o these still appl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xfsdump/xfsrestore does not suppor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tape devices using multiple -f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IXdumpoption-z (prune large fi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APIrelatedoptionsof-a and -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 xfsdump/xfsrestore does, however, have the added capabilitie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restricted use of the -b option for blocksize specification and rem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mping/restoring between Linux and IRIX 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1B066-0D67-4193-9887-186F202DE24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_copy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00EB8-2682-4AC5-BA4E-73094566058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FA2B8-F40F-4C82-B395-E7AA4C874417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440099"/>
                </a:solidFill>
                <a:uFillTx/>
                <a:latin typeface="Arial"/>
              </a:rPr>
              <a:t>Dump and Restor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is section descri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differences between xfsdump, xfs_copy and other backup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ow to use xfsdump and xfsrestore to backup and restore an XFS file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ow to use xfs_copy to copy an XFS file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E30DB-1138-41E2-A218-41903831F36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Dump vs Copy vs Backup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xfsdump understands all the extensions in an XFS filesystem, so all attributes will be backed up and resto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xfs_copy T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raditional backup applications may not backup all attributes, but they provide other management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ome are still limited to 32bit 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ome are BAPI aware which means they work with DMAPI and will not back up files that are already achieved by a HSM. Otherwise they would pull files off tape to backup onto other tap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C033B-5073-4D84-B73A-1329B57DDA4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dump - Featur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dump and xfsrestore support the follow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 features including 64-bit inode numbers, file lengths, and ho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ular, directory, symbolic link, block and character special, FIFO, and socket file 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tain hard lin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media types (tape, fil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not affect the state of the filesystem being dumped (for example, access times are retaine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restore detects and bypasses media errors and recovers rapidly after encountering th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dump does not crossmount points, local or remo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upport for automated and incremental back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0A152-AAAC-430E-B879-44239F26A46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dump – Media Layou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A9A75-D32B-4C74-99FA-415C7BB3B71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dump – Local Tap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B8CFB-D216-452B-AB1D-2E75D88D716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dump – Remote Tap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3D99A-D334-481F-B089-4908661D3E6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dump – Backup to a Fil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150EC-CFEF-4B58-9BA9-91A3F821D04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dump – Incremental Dump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422FD-ED39-4E01-8BD5-7ED7D880C4E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21:56:21Z</dcterms:modified>
  <cp:revision>340</cp:revision>
  <dc:subject/>
  <dc:title>Possible CXFS Administration and Monitoring Interfaces</dc:title>
</cp:coreProperties>
</file>