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AC40B-B3CF-42AC-9EC9-E72D669F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E827D-6766-4A7D-8E1F-0C3699F8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D895-DD4C-4682-ACBB-7592BB8D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3C35-E5CF-443B-95C1-A1C28EDA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55E0D-4AA8-4C25-BFFE-B410E783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7786C-40F2-4922-9ED6-F53F9E03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165D-957B-43AB-B8EE-1F914318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0805-B1ED-4DF0-843D-5CD4A887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561B-1A55-41DA-BE4C-F0A2B35A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F8EE-6850-4239-94A4-CDF94935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54BC-146D-4372-B5CB-07BD4328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C997-4E1B-4128-8345-1E0CE975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3C808D19-E3B8-4013-833A-6DBD9A8686C8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0 - Q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Q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266C0-3073-409F-A1AC-66A1A9F948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Kerne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ktrace, strace, l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d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kernel debug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B, PAGE_ALLOC, SPINLOCKS, MUT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ebug (assert, runtime che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tracing option (event his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error injection option (xfs_io “inject”, fsst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75D33-1823-499C-9942-524A7EA72F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Large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ways lack hardware to test the high end of filesystem size, inode cou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large sparse files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 to allocation group size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fs -dfile,name=/tmp/x,size=1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-o loop /tmp/x /mnt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tests/tools/ag-w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xfs_db to mark some AG's as “full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in QA (check/repair iss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repair undergoing surg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done all we can with thi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912B-14B3-45C8-9F17-56E5CB6003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6B8D-39CD-4903-B122-7A2CE4B3888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3:27Z</dcterms:modified>
  <cp:revision>338</cp:revision>
  <dc:subject/>
  <dc:title>Possible CXFS Administration and Monitoring Interfaces</dc:title>
</cp:coreProperties>
</file>