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C21A4-D775-45BE-BE76-C77DEA08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1D36B-6C7C-4E41-8735-D39FAE98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8CFBF-719F-403A-B8B1-9B9BA968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2F1F5-A6A5-4A89-AD03-85CC123A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FEC5B-086F-44A2-819D-FC8C428A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E5680-B3E4-4809-A7BE-D377754C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0B1FB-CBAD-4218-87EB-15ACD8C7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972BC-BB4E-4ABF-83D8-747F53B2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E3A24-71B1-472B-901B-57CF9922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848C4-AEAD-4CA0-A2E5-144D3FCD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DB99D-E10C-4618-AB15-0F45ED73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66E9B-CE5E-40EB-BCDF-87E1BD0C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CF459E3B-8B1C-4EBB-AE78-4C6546F3517C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4 - mkf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Filesystem Imag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kfs allows you to create a filesystem as a regular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can be used to create a filesystem on a loop-back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d file=1,name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=filename,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size=2g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DC5F2-50C7-4FFB-AE01-39761426CE5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Prototype Filesystem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657EA-1F1E-41B4-AAD3-9A76014B2D4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BCE5A-B31D-4FCF-AD1B-1B34535B638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Creating XFS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kfs.xfs supports a large number of options for configuration a large number of different XFS file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ee mkfs.xfs(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00s = 100 sectors = 100 x 512 bytes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00b = 100 blocks = 100 x 4 kilobytes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00k = 100 * 1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Assuming 512 bytes sectors and 4 KB filesystem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N option can be used to show filesystem parameters without creating a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so provides the capability to pre-initialise the filesystem with directories and  inodes, which is useful fo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49BF0-B26F-4212-8B44-F47C539AB0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Stripe Align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igning file data on stripe width boundaries can significantly improve performance on large RA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2MB write to filesystem with a 2MB stripe width and 512KB stripe unit will result in four I/Os, one to each lun. Without alignment this would often require two I/Os to one disk, and one I/O to the other three, taking longer than it shou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 create a filesystem with a stripe unit of 1MB for an 8+1 RAID you would 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d sunit=2048,swidth=16384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d su=1m,sw=8m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0E2CD-6823-4ED2-9A72-1DE7402D7E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Inode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mkfs inode options allow the user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size of the inode from the default 256 bytes to up 2048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maximum number of inodes in the filesystem, defaults to 2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xtended attribute allocation 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se options may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here the inode is allocated in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uch data needs to be read from disk to read the i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uch data may be associated with the inode before data goes out of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 allocate 512 bytes to each in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i size=512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4BEE1-108D-44BD-8569-E77F43575D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Directory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E2C3F-7EF0-464D-9DB8-F797B2197E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Sector Siz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8062B-2447-4F5A-B82C-4E474EC300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External Lo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journal log can be on a different device to the rest of the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t least 512 bloc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 more than 64K blocks or 128MB, whichever is sm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efaults to maximum size for &gt;1TB file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og device could be a device with better IOPS 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15K RPM disk or battery-backed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.xfs –l logdev=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log_device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ount –o logdev=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log_device device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9280" y="4869000"/>
            <a:ext cx="576000" cy="100800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4869000"/>
            <a:ext cx="1224000" cy="100800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27280" y="43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Journal Log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3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File Data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3F75A-4929-4B31-B0BA-E06124C306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Log Align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3966B-A3C2-4132-B6C4-D85B7BC974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- Realtim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7404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riginally designed for media streaming requiring predictable lat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altime volume tuned for large files without small inode clus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etadata and file data on separate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itmap allocator only has to manage file data al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mkfs.xfs –l log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log_device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–r rt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rt_device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mount –o log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log_device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,rt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rt_device device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rt_device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is the device for the file data,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device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s for the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ceives limited testing and support in 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4869000"/>
            <a:ext cx="576360" cy="100800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8000" y="4869000"/>
            <a:ext cx="647640" cy="1008000"/>
          </a:xfrm>
          <a:prstGeom prst="can">
            <a:avLst>
              <a:gd name="adj" fmla="val 25000"/>
            </a:avLst>
          </a:prstGeom>
          <a:solidFill>
            <a:srgbClr val="99cc66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43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Journal Log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59280" y="436572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4869000"/>
            <a:ext cx="1224000" cy="100800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43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File Data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34D20-2E58-4B07-A69C-C5BABD59D18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6:17Z</dcterms:modified>
  <cp:revision>338</cp:revision>
  <dc:subject/>
  <dc:title>Possible CXFS Administration and Monitoring Interfaces</dc:title>
</cp:coreProperties>
</file>