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5719-CDD6-4D24-9D9B-F49A37AA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6B57-5298-4420-BB84-1ACA8213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DD11-0FFE-4C56-9A34-57F748E8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32BB-2ED8-49E5-915F-5A93F0C7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B7A6-27C7-4A05-A2CE-55C2BD78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0353-1E00-40B9-9B3F-772867C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7DC7-B9B8-47BB-B768-1D9478CE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5673-648D-4625-A246-F125368F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B723-74FB-4A14-A667-06EFE8C6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BA95-5A83-4E3E-A495-01483E9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CA99-295E-49FA-89B2-3023E16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95A0-50C9-4073-831C-9E3E1CA1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FF0AB74D-4A98-47C9-B099-F0632F693312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6 - Volume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and Volume Manag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 with md, device mapper, software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0516-6744-41DE-AADE-F673BBAAF8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39B8-4F03-437E-A5F0-60804E9F163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7:40Z</dcterms:modified>
  <cp:revision>331</cp:revision>
  <dc:subject/>
  <dc:title>Possible CXFS Administration and Monitoring Interfaces</dc:title>
</cp:coreProperties>
</file>