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B912-299C-4B66-B142-87590582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01E4-CBB8-40EF-BE6D-26A54A16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480C-75E2-4137-AC4D-E10034FA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9477-75F3-4115-8C9B-AA9B22E5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EB81-7C81-4821-9C09-4A6211CA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D88D-057B-40B5-B816-7D58982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66AB-743D-4154-BE95-476B120D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4D0A-AE2F-46A7-A5BF-FB8208BF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D081-EFC9-4A44-AB68-359CD12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CCE3-AE58-469A-81D3-4D1B29FE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9F7A-0E49-4BC6-B3F5-3DA67F0A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C29A-F203-45D5-A82A-583B133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485C7714-FE65-4165-BE4A-5DE5B3843CB6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ss.sgi.com/bugzilla/show_bug.cgi?id=723" TargetMode="External"/><Relationship Id="rId2" Type="http://schemas.openxmlformats.org/officeDocument/2006/relationships/hyperlink" Target="http://oss.sgi.com/bugzilla/show_bug.cgi?id=723" TargetMode="External"/><Relationship Id="rId3" Type="http://schemas.openxmlformats.org/officeDocument/2006/relationships/hyperlink" Target="http://oss.sgi.com/bugzilla/show_bug.cgi?id=723" TargetMode="Externa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Re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6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, the filesytem is in a mountabl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the directories analysing a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irectories with any corruption are rebuilt with whatever entries can be recov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ssing root directory is recre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odes that are in a directory are marked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, any unreached inodes are put into lost+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AC5B-AC2B-4D00-ADF4-1110E6831B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7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inks for inodes are corrected based on the data collected in phase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12B0-A1C4-4D95-AA10-F4F9BC2EFF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iaging xfs_check and xfs_repair probl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of the time, inode information i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inode &lt;inode numb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oot inode number can be derived from the superblo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sb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 roo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or directories, we can also dump the contents from the extent list shown in the in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dblock &lt;file offset in block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rectories have file offsets typically starting at 0, 8388608 and 16777216. Each of these offsets stores different information for a direc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lename and inode numbers at 0, hash values at 8388608 and free space information at 167772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10D5-436C-47E4-B947-E3701A45ED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and xfs_check should ag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804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one of the tools reports a problem when the other passed the filesystem, there is a problem with one of th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likely xfs_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bugzilla/show_bug.cgi?i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=7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check finds some errors on the file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387655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3313696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7197100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repair reports no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20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1 - find and verify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2 - using internal 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zero lo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filesystem freespace and inode map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found root inode chu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3 - for each A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and clear agi unlinked lis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known inodes and perform inode discover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newly discovered inod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4 - check for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etting up duplicate extent list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 lost+found (if it exists) 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ing existing "lost+found" i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arking entry "lost+found" to b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heck for inodes claiming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hase 5 - rebuild AG headers and tre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6 - check inode connectivit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ting contents of realtime bitmap and summary i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ensuring existence of lost+found direc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filesystem starting at /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rebuilding directory inode 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all unattached subtrees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s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oving disconnected inodes to lost+foun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7 - verify and correct link coun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F0B2-C11F-4271-B20C-41029B0BFDA3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the offending inodes…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xfs_db -c "inode 387655" -c "print" /dev/sd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agic = 0x494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ode = 040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version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format = 1 (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linkv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size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block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extsiz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extent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unlinked 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i8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parent.i4 =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F402-217B-4377-803F-A7476A29E8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and Repair Fails – Corrupted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log is corrupted you will see an error like: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mount &lt;filesyste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unt: Unknown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dmesg | tail -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“&lt;filesystem&gt;": xfs_inode_recover: Bad inode magic number . .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"dm-0": XFS internal error xlog_recover_do_inode_trans(1) at line 2352 of file fs/xfs/xfs_log_recover.c. Caller 0xffffffff8830772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/recovery failed: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xfs_repair &lt;devi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1 - find and verify superblock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Phase 2 - using internal lo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         - zero log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ERROR: The filesystem has valuable metadata changes in a log which needs to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be replayed.  Mount the filesystem to replay the log, and unmount it befo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re-running xfs_repair.  If you are unable to mount the filesystem, then us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the -L option to destroy the log and attempt a repair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Note that destroying the log may cause corruption -- please attempt a moun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of the filesystem before doing th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ful information can be collected for tri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–C &lt;filename&gt;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-t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in this case, the only option may be to throw the log aw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urier New"/>
              </a:rPr>
              <a:t># xfs_repair 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753A-FE89-4BF5-BB79-E83F0C829F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F823-24BE-4237-85D3-A99A0930C1A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tro to checking and repairing filesystems, why do we need to do thi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08ED-34E6-4D9A-9492-3191923B5F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he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is a script that runs xfs_db to do a filesystem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check" command in xfs_db scans all the metadata structures for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uses a different codebase to xfs_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check and xfs_repair can be used to cross check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check vs xfs_repair -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9DF5-6C73-4D7C-8B42-86615A6210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scans the filesystem and corrects any problems encou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performs a scan and repair in sev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relies on the previous phase to fix a certain class of potential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uses libxfs which is a partial port of the XFS kernel code to user-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E1D3-8A33-49B8-8DB4-5D3CE0757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, verify and fix super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uperblock is not found, xfs_repair will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a virtual mount structure for the common XFS code base (libxfs) to work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FDD5-9BE4-4407-812C-583DAABF1A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he AG header structures (AGI, AGF and AGFL) and scans the AGF and AGI bt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2EE2-ACC6-4325-81DA-9D36D46DFF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AGI btree from phase2, scan the inode tree, processing the unlinked list for deleted inodes and finding possible missing inod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all the found inodes, recording used filesytem blocks (ext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ory inodes, scan the directory structure for more lost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d inodes are trashed including unrecoverable corrupted dire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8DA8-FCB4-480C-8C47-F99909FC0F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node extents again. Any inode with an extent covering used data is tra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4CDF-7D92-44B9-96A0-83D4860A0F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5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AG headers and structures including the AGI btree, AGF btrees and AGFL regardless whether any errors have been foun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 inodes are also reconstr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FABB-3936-4194-AFAE-90EAB7A7EA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10Z</dcterms:modified>
  <cp:revision>335</cp:revision>
  <dc:subject/>
  <dc:title>Possible CXFS Administration and Monitoring Interfaces</dc:title>
</cp:coreProperties>
</file>