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1E7E-E640-4B73-990E-881C030F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6F28-F597-4AE0-8AA7-B6BD54C8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7B01-8B40-46D2-AB12-694C4808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570B-710D-424F-8DB2-13D0B272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2535-A9B7-4398-993D-DEC22F7F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D4C7-D0B7-4581-99B4-C54CE6AC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CD22-0FA5-4D5D-999B-CB464F1C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992B-434A-457A-AFCF-1783FA55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A11E-3CB3-4C5E-9D7C-462606A4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31F8-4EB7-4AC8-B234-CC28D4B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725F-9E05-47BD-B78D-5631546E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7BF4-C350-4ADC-B9DD-6F969EEC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4FCCDC3-8F46-4CCA-9E51-807467657C3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3 -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IL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the AIL is moved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succ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su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bu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 locked – pushbuf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inn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p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lock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il was fl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restar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log writ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 log was 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D572-9C70-420D-9086-F155A7B172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Quota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_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quot_d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misse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h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in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qwant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ke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aked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active da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A006-D3EE-42F7-95B0-9A10AE4EB7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sta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misc/xfsstats.pl 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3FD0-58C1-4092-9425-C9C004C68B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951B-AB03-44DB-97F9-D1B44BBB069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nito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Dave Wright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2EC2-36E4-4267-AB79-88DF9B723B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tch grep inode /proc/sla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ar –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ODO: Need to 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abtop -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the sl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A90E-27E1-4E43-A675-C8D5D1279F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Inod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emp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looks for ino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ou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 foun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recycl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fails because inode was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mis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had to go to disk for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d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times missed but found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reclai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recyled the inode’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rch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changed inod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lush_cou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s are being flu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c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s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inod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not able to in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5E6D-D629-4D5B-97BF-5728568F71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Directory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 name directory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cre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re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tden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den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00B7-3782-4705-A1D1-77C9EEE939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File Attribut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g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” oper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s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se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remove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lis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lis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195C-5E78-4C0E-B072-C86AF602D0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llocation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llocation btree lookup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eee.compa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compares in alloc btre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ins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insert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del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delete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8DD9-D9AE-4039-BB69-5193655FDF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Block Map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read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write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un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add_ex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insertions fo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del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look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cmp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btre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comp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ins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in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del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09FE-711E-40FE-928A-D992598343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Journaling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ransactions waiting to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a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sync transaction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emp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that did not do an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uffe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lock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noiclo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entry attempt during memory fl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fs_log_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_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s_log_force_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BD07-13FD-44AD-A780-F90645B00D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5:40Z</dcterms:modified>
  <cp:revision>343</cp:revision>
  <dc:subject/>
  <dc:title>Possible CXFS Administration and Monitoring Interfaces</dc:title>
</cp:coreProperties>
</file>