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120D2-2A7A-46D0-B1F9-4C3FD354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36E97-3092-4942-B419-BB6E1ADB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B86A4-CE6D-4AD8-9530-CEDCEBF5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FD405-438C-45C6-8DD3-D29C2124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7B683-D968-4AD7-AEE5-108C06EB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2A942-4738-4DB4-8F6A-D2860E6B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2CD94-4165-4F92-B0A3-747BF35E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53AE1-9ECE-490A-A4E1-1421597A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20FC5-2201-427D-A284-42AEDF7A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EE519-35E6-4D61-9D46-7125849F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C43B0-BD14-4ACE-BC30-E4997DE6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D1D29-89B0-4D62-B0B5-D8BA8E05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7A8C7BE5-B60F-4930-AC0B-67B1A164E176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91640" y="437832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Presented by: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oss.sgi.com/projects/xfs/faq.html#wcache" TargetMode="External"/><Relationship Id="rId2" Type="http://schemas.openxmlformats.org/officeDocument/2006/relationships/hyperlink" Target="http://oss.sgi.com/projects/xfs/faq.html#wcache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5 - Mou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User/Group 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D62F7-F6C3-44E9-969F-B6FB5D6BD94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Project 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FFAC7-0067-45C8-8151-41943820682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info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F717B-224A-4DDF-A68B-76E3CDBE8B2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55C33-FA74-4137-89BD-7AE54563B134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Mounting XFS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section describes some XFS-specific mount options and how they affect the behaviour of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5FE3A-22EA-4FEF-AF9D-E683998478C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inux tre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cumentation/filesystems/xfs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xfs/fs/xfs_vfsops.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mount(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options are specific to XF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common Linux mount options does XFS not suppo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024A4-012E-41B5-A4A4-8FF3022AF6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Log &amp; Realtime Devic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92E3B-B309-44D3-81B1-88268118F6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64bit 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y default XFS uses 32bit i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inode’s number roughly equates to its location on 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ombination of allocation group, cluster and 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ode on Linux is 32bit on 32bit mach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ay change in future ker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llocator will place 32bit inodes in the first teraby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Using a larger inode size means less inodes per cluster allowing 32bit inodes to be located beyond the first tera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ode ro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inode64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option on 64bit machines allows inodes to span the entire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llocator will try to put file extents in same allocation group as i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t all backup tools support 64bit 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ode number used to identify file between back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D94DF-87D3-41BE-860B-6690306AFD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Allocator Hin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94151-CF86-4885-9929-D2E5B147BF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- Strip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3FBD2-2EC6-45A2-88CF-553376D7CA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- Recover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A26C2-9636-4D09-BA4F-E982ACFA69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- Barrie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rite cache on disk can result in filesystem corruption since XFS is told the log transaction has reached the disk when in fact it is still in the disk ca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journal log assumes that the log transaction is updated on disk before the metadata is updated, but this may not be true with write c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is able to issue write barriers if the device support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nsures that the log entry is written before any other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rite barriers are enabled by default in SLES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lesystem will attempt to determine is barriers are supported and will issue a warning if they are n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nobarrier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option disables write 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oss.sgi.com/projects/xfs/faq.html#w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4BC54-E275-4106-8301-0EFCE459FCC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7:00Z</dcterms:modified>
  <cp:revision>333</cp:revision>
  <dc:subject/>
  <dc:title>Possible CXFS Administration and Monitoring Interfaces</dc:title>
</cp:coreProperties>
</file>