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098B-E9B6-4EB6-AE5C-E99A08C38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melbourne.sgi.com/dmf_and_friends/internals/DMAP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6D526-B9D4-4BB3-ACC3-3366C107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53867-1550-4189-BFE9-F360AD9E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6DD85-0E29-4D08-922E-9CF6D475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021DA-C526-4848-8D0E-03DCD708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449E4-80F3-4A19-8B87-580BA3BC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B68E1-4354-49FA-AC42-EB97840F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19443-E88D-48AA-B364-06E4F9B6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43DF2-6597-4CDA-93FC-BFB7483C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23CE6-9124-4ED4-89B4-389C6044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1F889-EFE6-4E1D-A6A4-FC5FCFFD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70306-39CA-4A6F-AD14-0C827473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0397F-7FAB-4F15-984F-8C4BA133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61B5F887-B46A-4316-A5D0-C8554A288F5F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pengroup.org/pubs/catalog/c429.htm" TargetMode="External"/><Relationship Id="rId2" Type="http://schemas.openxmlformats.org/officeDocument/2006/relationships/hyperlink" Target="http://www.csu.edu.au/special/auugwww96/proceedings/alex/alex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2 - DMA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Filesystem Admi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is about to be moun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is about to unmou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unmount succeeded/fail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ystem has run out of sp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implemented by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ode has been read from dis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14FC3-7B80-437F-9824-AEEDBB81C7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Namespac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/post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file or direct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/postre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link a filesystem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/postr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ame a filesystem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/post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ard) link a filesystem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link/postsym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syml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0D4EC-861F-4621-862F-49A17810CDC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Da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pecified file byte range is about to be re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pecified file byte range is about to be writ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is about to be truncated to the specified address (away from or towards zer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D4AF9-BBF6-423D-8F54-3D9B69F19DA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Metada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object's attribute has chang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object has been destroy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implemented by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reviously issued event is cancell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ilesystem object has been clo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4F46A-CEA2-4973-B3D0-E4DDA412E05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Events - Pseudo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ev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ssage between cooperating DMAPI proces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B7991-7DB9-43CA-A623-523524985B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essions and Disposi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 uses sessions as the primary communication channels between DM application and the kernel component of 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ost all DMAPI calls require a session argu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s and event lists allow DM application to exercise a fine contr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event delivery and gen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 may direct different event types to different sessions and avoid session over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sitions indicate which event types should be delivered to this ses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M application creates a session by calling dm_open_session() and then may register event dispositions for this session by calling dm_set_disp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35595-6F70-4391-8294-2FC31846BF2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onnecting Events with Sess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esired events to be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eventlist_t 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by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per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by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trigger mount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t disposition of those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ipient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6D519-A433-4BC7-A41D-B790F06C0AC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onnecting Events -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ev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list of enabled events for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ev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list of enabled events for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di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disposition of events on a filesystem to a particular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return_on_dest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y a DMAPI attribute to return with destroy ev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8D8CF-2C99-48EF-9F86-938627D969C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Managing Sessions - DMAPI functions 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create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new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query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y a session for inform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destroy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roy the specified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all extant se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08B8E-8260-4798-BEFF-E7C96A7EACA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Processing Events -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next available event mess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respond-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d to one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fy FS of slow application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create_user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a user pseudo-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nd_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 message to indicated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move_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 event to another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BBC25-61DE-4408-9A5E-48E10E1C88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DMAPI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gem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lica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ramm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Data Management Interfaces Group consortium (DMIG), 1993-199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tandardized access to filesystems for Hierarchical Storage Managers (HSMs) and backup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MAPI in SLES is used by vendors other than just S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3D728-AD81-41F3-AF83-6CA249D144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ession Recover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all extant se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query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y a session for inf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create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/assume a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outstanding tokens for a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find_event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message for an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di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event dispositions for all filesystems for a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11B1D-10E3-4E4E-895B-112FB2CA3D8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anaged Reg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naged regions is the mechanism for an application to control file data access at a granularity level less than file size. It is an extent in the logical fil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 generation fla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yte-granularity events for all accesses/modifications of a file's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apply to file obje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 non-overlapping byte ranges in a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ly detect reads, writes, trunc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ne, persistent in X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7343E-7775-42B1-8178-C43D1DB88A6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anaged Regions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managed regions for a 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managed regions for a 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90C1A-6C01-436C-8699-FBEA499AA77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 Access and Modifi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not change mtime or atime (ctime chang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DO: B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not 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not generate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5B756-9427-41C8-980B-EBE233A44F4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 Access and Modification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robe_h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rounded result of the area where a hole is to be punch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unch_h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 hole in a fi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read_in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a file bypassing DMAPI ev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write_in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a file bypassing ev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sync_by_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c a file's data to dis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get_fileat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file attribu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set_fileat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file time stamps, ownership, mode, length, et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get_alloc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allocation info for a fi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1D9DF-AD2B-4F29-B641-7F1031E1D89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ersistent DMAPI Da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d per file as SGI_DMI_xxx extended attrib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stent across rebo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F stores in SGI_DMI_DMF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fid, file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s should be 512 bytes (-i size=5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3B5F5-9A7B-4D5D-A086-CFFE32FA059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ersistent DMAPI Data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e a DMAPI attrib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/replace a DMAPI attrib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remove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 a DMAPI attrib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e all DMAPI attributes for 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A5DEF-69F6-40BA-943C-24EC21A59A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canning Filesystems Quickl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init_attr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 a bulk attribute location off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bulk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bulk attributes for entire file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mplemented by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get_bulk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data management attributes for entire file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EB4C4-AB9A-49FE-9B91-98E0D255108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igh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 applications use the tokens to obtain access rights to file system objects to guarantee stability of th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session to control access/upd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for atomic updates over many fun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rights may 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d right allows read-only access (DM_RIGHT_SHA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lusive right allows modification to the object (DM_RIGHT_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eudo-available in X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9AF8D-32F3-4AC8-86E9-716B13F0C70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ights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release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ase all access rights to an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query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set of access rights to an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upgrade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grade current right to exclus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downgrade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grade current right to sha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implemented in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request_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 a specific access righ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20DDA-5C38-4091-88F0-3981B252E8A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SM Examp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5176800"/>
            <a:ext cx="2597400" cy="50328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218000">
            <a:off x="1668240" y="3478320"/>
            <a:ext cx="5265720" cy="1681200"/>
          </a:xfrm>
          <a:prstGeom prst="leftRightArrow">
            <a:avLst>
              <a:gd name="adj1" fmla="val 50000"/>
              <a:gd name="adj2" fmla="val 62352"/>
            </a:avLst>
          </a:prstGeom>
          <a:solidFill>
            <a:srgbClr val="c0b9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63480" y="2435400"/>
            <a:ext cx="839880" cy="1841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3581280" y="3317760"/>
            <a:ext cx="762120" cy="1814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8600" y="1219320"/>
            <a:ext cx="2816640" cy="11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63636"/>
                </a:solidFill>
                <a:latin typeface="Arial"/>
              </a:rPr>
              <a:t>Primary Storage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Online high-performance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e.g. 2 to 10 hours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current project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4832280"/>
            <a:ext cx="1954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De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e.g. &gt; 30 day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5181480"/>
            <a:ext cx="17524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De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e.g. &gt; 12 month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4351320"/>
            <a:ext cx="2363760" cy="50328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632960" y="2805120"/>
            <a:ext cx="2361960" cy="50328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48040" y="3021120"/>
            <a:ext cx="1179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Pro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on demand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3720" y="3546360"/>
            <a:ext cx="1179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Pro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on demand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84920" y="1371600"/>
            <a:ext cx="2457000" cy="14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63636"/>
                </a:solidFill>
                <a:latin typeface="Arial"/>
              </a:rPr>
              <a:t>Nearline Disk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High Capacity, Low cost, 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Lower performance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e.g. 6 to 20 hours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this years project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00200" y="2895480"/>
            <a:ext cx="1993680" cy="11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63636"/>
                </a:solidFill>
                <a:latin typeface="Arial"/>
              </a:rPr>
              <a:t>Tape Library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Archive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e.g. hundreds to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thousands of hour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 rot="5400000">
            <a:off x="7515000" y="4641840"/>
            <a:ext cx="881280" cy="51912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934320" y="4003560"/>
            <a:ext cx="839520" cy="181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38360" y="2971800"/>
            <a:ext cx="5295960" cy="990720"/>
          </a:xfrm>
          <a:custGeom>
            <a:avLst/>
            <a:gdLst/>
            <a:ahLst/>
            <a:rect l="l" t="t" r="r" b="b"/>
            <a:pathLst>
              <a:path w="3240" h="576">
                <a:moveTo>
                  <a:pt x="3240" y="576"/>
                </a:moveTo>
                <a:lnTo>
                  <a:pt x="1880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D43A0-EB6C-46CE-9432-F9E68EE9675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MAPI Mount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ptions must be used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nable the DMAPI event callo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dsm and dmi options are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tpt=mount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mountpoint specified here will be included in the DMAPI mount event, and should be the path of the actual mountpoint that is u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grep dmapi /etc/fs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dev/sdb1 /mnt/scratch1 xfs dmapi,mtpt=/mnt/scratch1,defaults 0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dev/sdb1 on /mnt/scratch1 type xfs (rw,dmapi,mtpt=/mnt/scratch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08FCA-928F-4EEB-9F3E-CEA74DA3B39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hat if there is no DMAPI module?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mount -o logdev=/dev/sdb,dmapi,mtpt=/mnt/data /dev/sdd /mnt/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unt: wrong fs type, bad option, bad superblock on /dev/sd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sing codepage or other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 some cases useful info is found in syslog - 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mesg | tail  or 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dmesg | tail | grep 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: unknown mount option [dmapi]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heck that DMAPI is probed on boot and 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LES10 set DMAPI_PROBE to yes in /etc/sysconfig/sysc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ithout rebooting XFS with load dmapi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# echo 1 &gt; /proc/sys/fs/xfs/probe_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# lsmod | grep 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mapi              22936 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mapi                  39728  1 xfs_dmapi,[permanen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                   479796  4 xfs_dmapi,xfs_qu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671B5-C0FD-43EE-A5FC-FA79CB7B901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Implement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DMAPI interfaces used by SGI’s HSM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ny of the bugs recently fixed in DMAPI did not impact SGI’s H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me DMAPI interfaces are not implemented by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intaining 2.4/2.6 compatible code makes it difficul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lan is to remove 2.4 support from this code 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MAPI requires two kernel changes that are not in ma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prot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pen_ex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E4148-DC7E-4600-B5BE-EDF06425687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Librari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 rpm -qpl dmapi-2.2.3-12.2.ia64.r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lib/libdm.so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lib/libdm.so.0.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CHANGES.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COP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READ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D5A5B-BE85-4458-A97D-4FB6CDEF811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Development Packag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 rpm -qpl dmapi-devel-2.2.3-12.2.ia64.r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lib/libdm.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include/xfs/dmapi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lib/libdm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lib/libdm.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lib/libdm.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man/man3/dmapi.3.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3F440-0BF3-4126-981A-0D83CAF4E18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Kernel Modu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rpm -qpl kernel-default-2.6.16.21-0.8.ia64.rpm | grep 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dmapi/dmapi.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ilesystem independent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xfs/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xfs/dmapi/xfs_dmapi.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dependent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4262A-6503-4BEA-9E82-E25BCD4BB2B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Triag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AE4EA-C7A8-4694-A2A1-7507A86497B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341EF-28C3-4F2F-9082-A120C24A45DB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SM Economic Benefi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4200" y="5452920"/>
            <a:ext cx="5459400" cy="366840"/>
          </a:xfrm>
          <a:prstGeom prst="rect">
            <a:avLst/>
          </a:prstGeom>
          <a:solidFill>
            <a:srgbClr val="36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9920" y="4790520"/>
            <a:ext cx="124776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Tape Library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30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2369520"/>
            <a:ext cx="137952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High-Perf.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2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966080" y="3421080"/>
            <a:ext cx="444600" cy="1057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927840" y="3487680"/>
            <a:ext cx="10382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Low Cost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6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0200" y="3852720"/>
            <a:ext cx="6122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System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c/MB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/o DMF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ith DMF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High-Perf. Disk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4c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900K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8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Low Cost Disk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0.8c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  -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5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Tape Library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0.37c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  -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110K</a:t>
            </a:r>
            <a:br>
              <a:rPr sz="1800"/>
            </a:b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DMF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  -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11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otal Investment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$900K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$35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84640"/>
            <a:ext cx="464184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Example Environment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2TB data less than 30 days ol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6TB data between 30 days and one year ol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30TB data over one year ol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70400" y="2369520"/>
            <a:ext cx="137952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High-Perf.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30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56200" y="1464120"/>
            <a:ext cx="17510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ithout HSM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3800" y="1464120"/>
            <a:ext cx="15242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ith HSM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676840" y="1914480"/>
            <a:ext cx="554040" cy="1200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904160" y="1936800"/>
            <a:ext cx="554040" cy="1200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8001000" y="4664160"/>
            <a:ext cx="452520" cy="97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C877B-2CB6-4920-B4BB-3F97D0355BE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hat do HSMs need?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notified of accesses/changes to a file's meta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able to accept or reject such accesses and cha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ave user processes block until the change has been appro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able to access a file without knowing a path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notified of changes to a file's meta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able to read and change the contents of a file without bloc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ave HSM-specific information persistently with a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can all files in a filesystem quick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notified when filesystems become fu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1893F-5AF8-4AEF-AFEF-E339DCA126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Standard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 Versions 2.1 and 2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/Open Data Storage Management API (XDSM) - 2/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 rigorous standa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70 function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40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 ev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 available free in HTML format from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opengroup.org/pubs/catalog/c429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 Miroshnichenko’s paper from AUUG 1996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csu.edu.au/special/auugwww96/proceedings/alex/al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96C58-B632-42E9-A38B-A1DA312EF9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and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file access without pathn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imilar to NFS file hand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andle is an opaque persistent identifier which is unique per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not change for the life of th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s are represented as variable length byte 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* and size_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istence of a valid handle does not guarantee existence of the object referenced b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nly way to guarantee the existence of the object referred to by a handle is to either obtain a right or hold on the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handle typ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handle - (used only in mount request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ystem handle - (fsid has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handle - (fsid hash/fid_t structur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4DA9E-DDDD-4DFC-B35A-C85A5F4280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andles -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ath_to_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file handle from path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fd_to_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file handle from file descrip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ath_to_fs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filesystem handle from file descrip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to_fs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 the filesystem handle from a file hand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c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 handle comparis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is_val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if a handle is val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h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h contents of a hand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storage allocated to a hand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to_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a pathname from two hand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A709D-9497-484C-B448-6329497B938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Events and Toke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s are messages from the kernel to a DMAPI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notification of accesses/changes to a file or file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synchronous event is generated, the user process is suspended in the kernel until a DMAPI application issues an explicit response to th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oken is a reference to the kernel state associated with a synchronous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events are for notification purpos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indicate a completion (or failure) of certain oper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 not block user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ntain handles, directory nam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4DCDC-E8F5-49E5-AC5A-0ACE1B5BB5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6:58Z</dcterms:modified>
  <cp:revision>335</cp:revision>
  <dc:subject/>
  <dc:title>Possible CXFS Administration and Monitoring Interfaces</dc:title>
</cp:coreProperties>
</file>