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78CE1-B6CD-472D-A67C-1602B6C51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26754-9390-43C8-921F-132618B8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24F1E-C423-48D5-A117-D0F33FF9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0875A-8AF1-4397-806E-FB0D51252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D4022-21B1-403C-A7C5-6FBA77E0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626B6-F3A6-4946-9B57-78B7A9AF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E3EC9-269D-403E-9B15-0E4143CF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17DD4-FB76-4A6D-BD2A-74598803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99E12-C2AF-410D-9A41-B15C5C35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AA2C5-C54C-4997-A8CC-DD4CF7BB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14D38-E320-431E-A640-2AFAA140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05AF9-66C9-4FD9-9572-E718CB1D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047B5E9B-91DF-4BC7-B422-21BD21878CCC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12 - Tri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12 - Tri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QA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: Incorporate Nathan’s stuff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2 - Tri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1470E-1738-43B6-B625-DCD83346035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QA Kernel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ktrace, strace, ltr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kd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ch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ic kernel debug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AB, PAGE_ALLOC, SPINLOCKS, MUTE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EM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debug (assert, runtime chec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tracing option (event histo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error injection option (xfs_io “inject”, fsstr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2 - Tri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AABBF-1D18-44E8-820E-DFDFF40E343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QA Large Filesyste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always lack hardware to test the high end of filesystem size, inode count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use large sparse files for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d to allocation group size ch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kfs -dfile,name=/tmp/x,size=1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 -o loop /tmp/x /mnt/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tests/tools/ag-wi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xfs_db to mark some AG's as “full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d in QA (check/repair issu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repair undergoing surg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be done all we can with thi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2 - Tri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C0055-DACF-4069-8C5E-A60F493824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2 - Triag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8C8C6-3B77-4E3C-AFA9-A7357BB65A7A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4:57Z</dcterms:modified>
  <cp:revision>338</cp:revision>
  <dc:subject/>
  <dc:title>Possible CXFS Administration and Monitoring Interfaces</dc:title>
</cp:coreProperties>
</file>