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FE49A3-3ACA-487E-88EA-292FE936B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37680" y="372996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3B95E3-CE46-4A26-8103-7387F138D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000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0DBFA7-6D31-4490-AE46-03C4A993F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0292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6816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3768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0292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6816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ACA540-21F2-4A9F-9CBE-9ACD43C38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355680" y="263520"/>
            <a:ext cx="8447040" cy="30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0F068C-3F57-49A8-9643-953B0B9C9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8000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7680" y="372996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8000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0292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6816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3768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0292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6816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416C23-F8B5-4F7C-BDEA-65FE389CB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30100E-D00C-4A50-8965-21501C63A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E8BC14-22BD-43EF-BB70-65B0BBD03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55680" y="263520"/>
            <a:ext cx="8447040" cy="30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D9E91F-8C2A-4954-86EB-3C640921E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3F132F-C94C-483D-BE51-5F51E2793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000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975F94-4DA7-4FEF-A021-A2EF890CC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31CA02-9E2E-4ABA-9262-EA84006C3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012000"/>
            <a:ext cx="9144000" cy="0"/>
          </a:xfrm>
          <a:prstGeom prst="line">
            <a:avLst/>
          </a:prstGeom>
          <a:ln w="57240">
            <a:solidFill>
              <a:srgbClr val="44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213760" y="6264360"/>
            <a:ext cx="539640" cy="444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40099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36363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36363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2390400" y="6237360"/>
            <a:ext cx="119052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27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27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63636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3673440" y="6237360"/>
            <a:ext cx="190512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63636"/>
                </a:solidFill>
                <a:latin typeface="Arial"/>
              </a:rPr>
              <a:t>Page </a:t>
            </a:r>
            <a:fld id="{B6E18849-ECAD-426E-971D-DF45160D5A93}" type="slidenum">
              <a:rPr b="0" lang="en-US" sz="1000" spc="-1" strike="noStrike">
                <a:solidFill>
                  <a:srgbClr val="36363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225520" y="6199200"/>
            <a:ext cx="2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63636"/>
                </a:solidFill>
                <a:latin typeface="Arial"/>
              </a:rPr>
              <a:t>|</a:t>
            </a:r>
            <a:endParaRPr b="0" lang="en-US" sz="1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3537000" y="6199200"/>
            <a:ext cx="19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63636"/>
                </a:solidFill>
                <a:latin typeface="Arial"/>
              </a:rPr>
              <a:t>|</a:t>
            </a:r>
            <a:endParaRPr b="0" lang="en-US" sz="1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ftr" idx="3"/>
          </p:nvPr>
        </p:nvSpPr>
        <p:spPr>
          <a:xfrm>
            <a:off x="323640" y="6237360"/>
            <a:ext cx="192708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63636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rcRect l="13223" t="9376" r="18457" b="9336"/>
          <a:stretch/>
        </p:blipFill>
        <p:spPr>
          <a:xfrm>
            <a:off x="812880" y="1346040"/>
            <a:ext cx="3819600" cy="38721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991200" y="0"/>
            <a:ext cx="2148120" cy="6858000"/>
          </a:xfrm>
          <a:prstGeom prst="rect">
            <a:avLst/>
          </a:prstGeom>
          <a:solidFill>
            <a:srgbClr val="44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7486560" y="5400720"/>
            <a:ext cx="1214640" cy="9842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334800" y="423720"/>
            <a:ext cx="3962520" cy="2206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647800" y="2066760"/>
            <a:ext cx="406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3636"/>
                </a:solidFill>
                <a:latin typeface="Arial"/>
              </a:rPr>
              <a:t>Silicon Graphics, Inc.</a:t>
            </a:r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97000" y="2695320"/>
            <a:ext cx="5511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825800" y="569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6363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39480" y="6092640"/>
            <a:ext cx="192708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63636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63636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  <a:p>
            <a:pPr lvl="1" marL="401760"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300"/>
              </a:spcBef>
              <a:buClr>
                <a:srgbClr val="000000"/>
              </a:buClr>
              <a:buFont typeface="Helvetic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249"/>
              </a:spcBef>
              <a:buClr>
                <a:srgbClr val="000000"/>
              </a:buClr>
              <a:buFont typeface="Helvetic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249"/>
              </a:spcBef>
              <a:buClr>
                <a:srgbClr val="36363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249"/>
              </a:spcBef>
              <a:buClr>
                <a:srgbClr val="36363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4360" y="2695320"/>
            <a:ext cx="6024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XFS Overview &amp; Internals</a:t>
            </a:r>
            <a:br>
              <a:rPr sz="3200"/>
            </a:b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02 - Overview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150560" y="4743000"/>
            <a:ext cx="55753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XFS Slides 02 -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Inode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XFS has three inode struc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Ondisk in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Used for storing the metadata for all files, directories and other file typ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By default 256 bytes but can be up to 2Ki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Linux in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TO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XFS in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TO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The Linux and XFS inodes have different lifecycles, which can cause probl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2 -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D1B877-B151-43A3-8AD4-688FCA8E712B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Directory and File Inode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379440" y="1359000"/>
            <a:ext cx="8383680" cy="4138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2 - Overview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B29C9A-DB9F-4A9C-BC28-C49B1909C85F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Journal Log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TO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2 -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7ABC10-A97A-4C05-8757-A5F183712EE5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057400" y="1295280"/>
            <a:ext cx="4813200" cy="3846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2 - Overview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F18EE2-4A35-4967-BA1B-ACF374AD3A74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 u="sng">
                <a:solidFill>
                  <a:srgbClr val="440099"/>
                </a:solidFill>
                <a:uFillTx/>
                <a:latin typeface="Arial"/>
              </a:rPr>
              <a:t>XFS Filesystem Structure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This section gives an overview of the structure of an XFS file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More detailed examination of the filesystem structure is covered later in the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See xfs(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2 -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7FA00A-A494-4936-AA5B-A1D1CFE4BB37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Allocation Group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An XFS filesystem is divided evenly into allocation grou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An allocation group can be from 16MB to 1TB in si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Each allocation group inclu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Super block information about the entire file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Free space management (within the allocation grou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Inode allocation and tracking (with the allocation grou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Inode clusters within an allocation group are created when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mkfs.xfs does not pre-create inodes throughout the file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See xfs(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2 -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A87ED0-58CC-42E1-ADC2-26C1566D638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XFS Filesystem Structure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722160" y="963720"/>
            <a:ext cx="7697880" cy="4930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2 - Overview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C91F42-E67A-46AE-AEBD-CA46541D8722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260960" y="0"/>
            <a:ext cx="4883040" cy="6002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2 - Overview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E9BDD7-DCB7-4A79-892A-C711634D8193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XFS Limit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32 bit Linu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Maximum File Size = 1T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Maximum Filesystem Size = TB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64 bit Linu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Maximum File Size = 9 Million TB = 9 Exa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Maximum Filesystem Size = 18 Million TB = 18 Exa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2 -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AE0C60-E372-4B45-B73B-C6E983E32E3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Filesystem Block Size (FSB)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Filesystem blocks (FSBs) are the unit of space for a file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Filesystem blocks are comprised of one or more device-level secto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The page management implementation in Linux limits the FSB size to the page si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4KB on ia32 and x86_64 architectu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16KB on ia6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TBD on powerp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Performance can improve with different block sizes depending on the size of I/O requests and the size of 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Larger blocks will also use more disk space for small (&lt;1FSB) fi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2 -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30D641-0B02-48F9-B745-3EEAE88199A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Extent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An extent is a set of one or more contiguous FSBs that define a region in the filesystem for file data or 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A single extent can be up to 8GB in leng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A file’s inode lists the extents associated with that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For very large files, the file’s inode may have thousands of extents, or one very large extent. Usually something in betwe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Extents are also used for file and directory metadata when the information exceeds the space reserved for an in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2 -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2A6135-71EE-452F-9192-8ACA6F90B8A1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Unwritten Extent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TO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2 -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87EB2D-69DB-46DF-8D1E-52EC9AC680FE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7T10:54:15Z</dcterms:created>
  <dc:creator>David Chatterton</dc:creator>
  <dc:description/>
  <dc:language>en-US</dc:language>
  <cp:lastModifiedBy>chatz</cp:lastModifiedBy>
  <dcterms:modified xsi:type="dcterms:W3CDTF">2006-10-30T19:34:39Z</dcterms:modified>
  <cp:revision>337</cp:revision>
  <dc:subject/>
  <dc:title>Possible CXFS Administration and Monitoring Interfaces</dc:title>
</cp:coreProperties>
</file>