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62943"/>
        <c:axId val="7501192"/>
      </c:barChart>
      <c:catAx>
        <c:axId val="30762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192"/>
        <c:crosses val="autoZero"/>
        <c:auto val="1"/>
        <c:lblAlgn val="ctr"/>
        <c:lblOffset val="100"/>
        <c:noMultiLvlLbl val="0"/>
      </c:catAx>
      <c:valAx>
        <c:axId val="7501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62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241-EAC1-402B-9AB3-84BFA7B3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350-D0F9-4F4A-820D-527B85F2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FAE-BD75-40AF-BCE8-77672714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2B1-16DB-4490-B10F-363848F9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F57-7563-4B19-B505-9EBBE5CE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E4F-6B04-4DCB-9ADC-8254D601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67B-B78D-46B5-BF2A-35EC842E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9C6-DC03-4F16-A760-B95F0E3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D55-D55C-4587-980A-7D8FE9B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0BD-EFC0-46CC-9D53-9FD0F97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DD9-70B9-44B5-BADF-CF7B8DD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032-4D6B-49F5-A94B-5051B6B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78029-184D-4276-B7D6-940E547CB1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