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31273"/>
        <c:axId val="47980290"/>
      </c:barChart>
      <c:catAx>
        <c:axId val="1383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0290"/>
        <c:crosses val="autoZero"/>
        <c:auto val="1"/>
        <c:lblAlgn val="ctr"/>
        <c:lblOffset val="100"/>
        <c:noMultiLvlLbl val="0"/>
      </c:catAx>
      <c:valAx>
        <c:axId val="47980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83C-C1D3-4126-82CA-988CA8C3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3FB-0371-49F0-A982-1FA67A8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15A-C116-4096-920D-8C0DD951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F1D-F9D1-4703-B652-B75FAABA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20C-A34F-4350-ACEF-1ED61412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141-A8FD-4D66-B567-91BA83A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542-BAD7-4A84-83A3-8E30154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1BB-8AD4-4F00-BA93-71CB6EE4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C29-8B17-4712-9BD1-F26BC108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333-2511-4729-AA1A-C723DBD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42D-6526-40BE-AAF3-EBD669F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B51-0F32-4928-94F0-3E944D8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CFF50-70A9-428E-8227-2811F7808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