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80800" y="69660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349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7D9A64-8BB5-40B5-81AE-90DD36F75E5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C7728D-FE3D-4AF5-81D8-7C413F58228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1C1A66-AE09-489B-B8F5-8176091104D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Refer to the aggregation dia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B986CC-F0B1-4D62-B28E-3FAAB19DA04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1F5CBF-BA8B-45C6-ACEC-8BFAC7D47E3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7F8175-B44E-4705-8195-294ED3B19F1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D7093F-6F16-4F8B-BE50-3A966947A97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5AAD0E-973D-4601-8E9F-0431EA78B2E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162EB9-9F00-4929-900C-79224979041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0F6600-498F-454A-967C-4B1E2A725AB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61B3CB-ABAE-423F-9B60-57E5ADD94E7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529ABE-78C2-4E23-B567-A12EAF3FE93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186820-5E32-4750-99C1-D697411A567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FAC09F-FBA6-4793-9348-DD8EFFE40DB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D5D3D2-1990-4E20-A31C-1C4B20A3D47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B26D35-F89B-46B5-8B1A-47E449988B5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C59D8C-41A3-4048-8F9A-308864B3FE6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CEBC89-2D7F-43C9-B1EA-E62E52921E9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67D03D-40DF-4261-81EC-56E69EA2B22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FEA00A-1B39-46BE-A079-86F4BE3F345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47A00C-AAC1-43AF-A049-A6220232A4A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4239E4-A1C3-4070-ABCD-B2A8BE08C37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ED1C47-D74F-4147-A282-FDA9905A934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89B92E-D2BC-46F3-85F4-C814E665C2F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0A3C-219F-4F10-86CE-714657766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4CA8-EB96-4075-951F-666BB89B4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1B09-3EF8-40ED-88AB-9555A36A9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4F49-6457-4C91-A827-707F14068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5A2E4-FC25-4A39-8874-2CCE75086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2B2F6-69A4-4C18-8E98-88EC8A7B6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BA428-C89E-4B05-B5E2-FF877BCAB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678EB-6329-4D8B-BB44-81DA046A1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2DD20-D261-4D2A-909E-AB017597F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4DE28-810C-4C57-ABEE-2B9E0E789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30482-2F8A-4C34-A6E8-DD276BABE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FBA4-AB68-4516-A0C0-14C474A98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E26A2-ED23-40D0-8DB4-340032429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834F9-155D-4A1C-8D15-37E8202D3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17C0A-62B9-40FC-959C-EEA292E71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9232A-BDC7-4D8D-8377-034B3290B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A4FCB-3EFF-4289-BA74-1638CDC2C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3377-6346-410F-A1EC-0AC8CB2F4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3067-9D34-4459-B152-D2738B27C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438D-E4DD-4594-893E-9274C50D5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8CD8-D250-45FB-86E1-A72C2E5B0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16D5-2A4D-4FB0-83F4-051990922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DC13-4699-4F35-8BB2-1B017E392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350A-1F6B-43F4-8DCC-45B4F5D87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1219320"/>
            <a:ext cx="8410680" cy="46080"/>
          </a:xfrm>
          <a:prstGeom prst="rect">
            <a:avLst/>
          </a:prstGeom>
          <a:solidFill>
            <a:srgbClr val="33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324120"/>
            <a:ext cx="19018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26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520" y="640044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E0AF02-AA80-41B7-A900-BD3778C9EA02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2438280"/>
            <a:ext cx="9007200" cy="1051200"/>
            <a:chOff x="0" y="2438280"/>
            <a:chExt cx="9007200" cy="1051200"/>
          </a:xfrm>
        </p:grpSpPr>
        <p:grpSp>
          <p:nvGrpSpPr>
            <p:cNvPr id="43" name=""/>
            <p:cNvGrpSpPr/>
            <p:nvPr/>
          </p:nvGrpSpPr>
          <p:grpSpPr>
            <a:xfrm>
              <a:off x="290160" y="2545920"/>
              <a:ext cx="708840" cy="472320"/>
              <a:chOff x="290160" y="2545920"/>
              <a:chExt cx="708840" cy="472320"/>
            </a:xfrm>
          </p:grpSpPr>
          <p:sp>
            <p:nvSpPr>
              <p:cNvPr id="44" name=""/>
              <p:cNvSpPr/>
              <p:nvPr/>
            </p:nvSpPr>
            <p:spPr>
              <a:xfrm>
                <a:off x="290160" y="2545920"/>
                <a:ext cx="436680" cy="4723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71400" y="2545920"/>
                <a:ext cx="327600" cy="4723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" name=""/>
            <p:cNvGrpSpPr/>
            <p:nvPr/>
          </p:nvGrpSpPr>
          <p:grpSpPr>
            <a:xfrm>
              <a:off x="414000" y="2967480"/>
              <a:ext cx="734400" cy="472320"/>
              <a:chOff x="414000" y="2967480"/>
              <a:chExt cx="734400" cy="472320"/>
            </a:xfrm>
          </p:grpSpPr>
          <p:sp>
            <p:nvSpPr>
              <p:cNvPr id="47" name=""/>
              <p:cNvSpPr/>
              <p:nvPr/>
            </p:nvSpPr>
            <p:spPr>
              <a:xfrm>
                <a:off x="414000" y="2967480"/>
                <a:ext cx="421200" cy="47232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81200" y="2967480"/>
                <a:ext cx="367200" cy="47232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0" y="2894760"/>
              <a:ext cx="560160" cy="421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4680" y="2438280"/>
              <a:ext cx="31320" cy="105120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15720" y="3258360"/>
              <a:ext cx="8691480" cy="550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182880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99036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42864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8576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B60B237F-C99F-446D-8663-8C94D9BA6067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0773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Chapter 4: Data Cube Computation and Data Generaliz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 Qu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6119640" y="360360"/>
            <a:ext cx="3024360" cy="360036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52280" y="37908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UC: Partition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0" y="1260000"/>
            <a:ext cx="6084720" cy="52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Usually, entire data set                                 can’t fit in main memor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Sor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distin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 values, partition into blocks that f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Continue process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Optimiz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External Sorting, Hashing, Counting S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rdering dimensions to encourage pru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rdinality, Skew, Corre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llapsing duplic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n’t do holistic aggregates anymor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: An Integrating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-360" y="1197000"/>
            <a:ext cx="889308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Integrate the top-down and bottom-up metho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Explore shared dimens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dimensio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the shared dimension o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C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/AB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means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has shared dimension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llows for shared comput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computed simultaneously a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ggregate in a top-down manner but with the bottom-up sub-layer underneath which will allow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pru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Shared dimensions grow in bottom-up fash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2916360" y="4365720"/>
          <a:ext cx="4584600" cy="22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4365720"/>
                    <a:ext cx="4584600" cy="22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ceberg Pruning in Shared Dimens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323640" y="1341360"/>
            <a:ext cx="85690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 property of shared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 measure i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and if the aggregate value on a shared dimension does not satisfy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ond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n all the cells extended from this shared dimension cannot satisfy the condition ei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uition: if we can compute the shared dimensions before the actual cuboid, we can use them to d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pru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roblem: how to prune while still aggregate simultaneously on multiple dimens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Attributes and Star Nod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456840" y="1523880"/>
            <a:ext cx="548316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ntuition: If a single-dimensional  aggregate on an attribute 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does not satisfy the iceberg condition, it is useless to distinguish them during the iceberg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olution: Replace such attributes by a *.  Such attributes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attributes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nd the corresponding nodes in the cell tre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6018120" y="2590920"/>
          <a:ext cx="2741760" cy="2208240"/>
        </p:xfrm>
        <a:graphic>
          <a:graphicData uri="http://schemas.openxmlformats.org/drawingml/2006/table">
            <a:tbl>
              <a:tblPr/>
              <a:tblGrid>
                <a:gridCol w="446400"/>
                <a:gridCol w="446400"/>
                <a:gridCol w="446040"/>
                <a:gridCol w="446400"/>
                <a:gridCol w="956520"/>
              </a:tblGrid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: Star Reduc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323640" y="1484280"/>
            <a:ext cx="534348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uppose minsup =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erform one-dimensional aggregation.  Replace attribute values whose count &lt; 2 with *.  And collapse all *’s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Resulting table has all such attributes replaced with the star-attrib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With regards to the iceberg computation, this new tabl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5940360" y="4508640"/>
          <a:ext cx="2885760" cy="1931400"/>
        </p:xfrm>
        <a:graphic>
          <a:graphicData uri="http://schemas.openxmlformats.org/drawingml/2006/table">
            <a:tbl>
              <a:tblPr/>
              <a:tblGrid>
                <a:gridCol w="561600"/>
                <a:gridCol w="480960"/>
                <a:gridCol w="398160"/>
                <a:gridCol w="563040"/>
                <a:gridCol w="882000"/>
              </a:tblGrid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5940360" y="1773360"/>
          <a:ext cx="2743200" cy="2190600"/>
        </p:xfrm>
        <a:graphic>
          <a:graphicData uri="http://schemas.openxmlformats.org/drawingml/2006/table">
            <a:tbl>
              <a:tblPr/>
              <a:tblGrid>
                <a:gridCol w="533520"/>
                <a:gridCol w="457200"/>
                <a:gridCol w="457200"/>
                <a:gridCol w="457200"/>
                <a:gridCol w="83808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1" name=""/>
          <p:cNvSpPr/>
          <p:nvPr/>
        </p:nvSpPr>
        <p:spPr>
          <a:xfrm>
            <a:off x="7308720" y="4005360"/>
            <a:ext cx="0" cy="44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446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Given the new compressed table, it is possible to construct the corresponding cell tree—cal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Keep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t the side for easy lookup of star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he star tre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cell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5029200" y="1295280"/>
            <a:ext cx="3962520" cy="289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Lattice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457200" y="1676520"/>
          <a:ext cx="8458200" cy="47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845820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291240" y="229680"/>
            <a:ext cx="4262040" cy="7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686800" cy="481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0" name=""/>
          <p:cNvGraphicFramePr/>
          <p:nvPr/>
        </p:nvGraphicFramePr>
        <p:xfrm>
          <a:off x="4870440" y="258840"/>
          <a:ext cx="351792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70440" y="258840"/>
                    <a:ext cx="351792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2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09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Star-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9" name=""/>
          <p:cNvSpPr/>
          <p:nvPr/>
        </p:nvSpPr>
        <p:spPr>
          <a:xfrm>
            <a:off x="380880" y="4876920"/>
            <a:ext cx="8229600" cy="17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Star-Tree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80520" y="1523880"/>
            <a:ext cx="830268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rt depth-first search at the root of the base 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t each new node in the DFS, create corresponding star tree that are descendents of the current tree according to the integrated traversal orde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.g., in the base tree, 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CD/A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BD/AD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counts in the base tree are carried over to the new tre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4400" y="1260000"/>
            <a:ext cx="853452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Preliminary cube computation trick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Computing full/iceberg cubes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Top-Down: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  <a:ea typeface="SimSun"/>
              </a:rPr>
              <a:t>Multi-Wa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array aggreg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Bottom-Up: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SimSun"/>
              </a:rPr>
              <a:t>Bottom-up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computation: BUC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ntegrating Top-Down and Bottom-Up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: A Minimal Cubing Approac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 (2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822636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a leaf node (e.g.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, start backtra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 every backtracking branch, the count in the corresponding trees are output, the tree is destroyed, and the node in the base tree is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c*/a1b*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D/a1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a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jump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repeat similar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2195640" y="2421000"/>
            <a:ext cx="4724280" cy="412596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Curse of Dimensionalit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None of the previous cubing method can handle high dimensionality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 database of 600k tuples.  Each dimension has cardinality of 100 an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zip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47160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otivation of High-D OL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184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hallenge to current cubing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“curse of dimensionality’’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ube and compressed cubes: only delay the inevitable explo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ull materialization: still significant overhead in accessing results on dis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High-D OLAP is needed i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cience and engineering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io-data analysis: thousands of ge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tistical surveys: hundreds of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62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ast High-D OLAP with Minimal Cub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113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Obser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: OLAP occurs only on a small subset of dimensions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Semi-Online Computational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the set of dimensions into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data cubes for each shell fragment while retaining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verted indic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value-list ind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Given the pre-computed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ragment cub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dynamically compute cube cells of the high-dimensional data cub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operties of Proposed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artitions the data vert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Reduces high-dimensional cube into a set of lower dimensional cub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line re-construction of original high-dimensional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SimSun"/>
              </a:rPr>
              <a:t>Lossless re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ffers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radeoff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etween the amount of pre-processing and the speed of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et the cube aggregation function 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5 dimensions into 2 shell fragment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 and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, 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1981080" y="2295360"/>
            <a:ext cx="4647960" cy="2733480"/>
            <a:chOff x="1981080" y="2295360"/>
            <a:chExt cx="4647960" cy="2733480"/>
          </a:xfrm>
        </p:grpSpPr>
        <p:sp>
          <p:nvSpPr>
            <p:cNvPr id="546" name=""/>
            <p:cNvSpPr/>
            <p:nvPr/>
          </p:nvSpPr>
          <p:spPr>
            <a:xfrm>
              <a:off x="58532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0788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30452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52980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7554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9810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8532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788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30452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52980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7554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9810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8532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0788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30452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52980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7554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9810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8532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0788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30452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52980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7554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9810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8532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0788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30452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52980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7554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9810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8532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0788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30452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52980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7554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9810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981080" y="2295360"/>
              <a:ext cx="46468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981080" y="27507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981080" y="32061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981080" y="366156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981080" y="41169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81080" y="457200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981080" y="5027760"/>
              <a:ext cx="46468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981080" y="2295360"/>
              <a:ext cx="144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75544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52980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30452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07888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853240" y="2295360"/>
              <a:ext cx="108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627960" y="2295360"/>
              <a:ext cx="108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1-D Inverted Indic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uild traditional invert index or RID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1828800" y="2209680"/>
            <a:ext cx="5181120" cy="4079520"/>
            <a:chOff x="1828800" y="2209680"/>
            <a:chExt cx="5181120" cy="4079520"/>
          </a:xfrm>
        </p:grpSpPr>
        <p:sp>
          <p:nvSpPr>
            <p:cNvPr id="599" name=""/>
            <p:cNvSpPr/>
            <p:nvPr/>
          </p:nvSpPr>
          <p:spPr>
            <a:xfrm>
              <a:off x="5713560" y="591804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809160" y="591804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828800" y="591804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713560" y="554976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809160" y="554976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 4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828800" y="554976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3560" y="518004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809160" y="518004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828800" y="518004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13560" y="48103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809160" y="48103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828800" y="48103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713560" y="444060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809160" y="444060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828800" y="444060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713560" y="407232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809160" y="407232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828800" y="407232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713560" y="370296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809160" y="370296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828800" y="370296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713560" y="333288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809160" y="333288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828800" y="333288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713560" y="29635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809160" y="29635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828800" y="29635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713560" y="259524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809160" y="259524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828800" y="259524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713560" y="2209680"/>
              <a:ext cx="12945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ist Siz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809160" y="2209680"/>
              <a:ext cx="190440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 Li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828800" y="2209680"/>
              <a:ext cx="19803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ttribute 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828800" y="220968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828800" y="2595240"/>
              <a:ext cx="517968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828800" y="29635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828800" y="333288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828800" y="37029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828800" y="407232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828800" y="4440600"/>
              <a:ext cx="51796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828800" y="48103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828800" y="518004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828800" y="55497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828800" y="591804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828800" y="628776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828800" y="2209680"/>
              <a:ext cx="108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809160" y="2209680"/>
              <a:ext cx="144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713560" y="2209680"/>
              <a:ext cx="108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008480" y="2209680"/>
              <a:ext cx="144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eneralize the 1-D inverted indices to multi-dimensional ones in the data cube se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50" name=""/>
          <p:cNvGraphicFramePr/>
          <p:nvPr/>
        </p:nvGraphicFramePr>
        <p:xfrm>
          <a:off x="1600200" y="3124080"/>
          <a:ext cx="6400800" cy="2438640"/>
        </p:xfrm>
        <a:graphic>
          <a:graphicData uri="http://schemas.openxmlformats.org/drawingml/2006/table">
            <a:tbl>
              <a:tblPr/>
              <a:tblGrid>
                <a:gridCol w="1066680"/>
                <a:gridCol w="2743200"/>
                <a:gridCol w="1295640"/>
                <a:gridCol w="1295280"/>
              </a:tblGrid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Inters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TID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List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3359160" y="3684600"/>
                <a:ext cx="22212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3352680" y="41911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3124080" y="46753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3124080" y="518148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5486400" y="5130720"/>
                <a:ext cx="3049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Ä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877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all cuboids for data cub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while retaining the inverted ind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shell fragment cu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contains 7 cuboi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, AC, 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is completes the offline computation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3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a database of T tuples, D dimensions, and F shell fragment size, the fragment cubes’ space requirement i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F &lt; 5, the growth is sub-line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3048120" y="2971800"/>
                <a:ext cx="2895480" cy="12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d>
                          <m:dPr>
                            <m:begChr m:val="⌈"/>
                            <m:endChr m:val="⌉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F</m:t>
                                </m:r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F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760" y="260280"/>
            <a:ext cx="889488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eliminary Tricks (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SimSun"/>
              </a:rPr>
              <a:t>Agarwal et al. VLDB’96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orting, hashing, and grouping operations are applied to the dimension attributes in order to reorder and cluster related tup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ggregates may be computed from previously computed aggregates, rather than from</a:t>
            </a:r>
            <a:r>
              <a:rPr b="0" lang="en-US" sz="2000" spc="-1" strike="noStrike">
                <a:solidFill>
                  <a:srgbClr val="00ff00"/>
                </a:solidFill>
                <a:latin typeface="Tahoma"/>
                <a:ea typeface="SimSun"/>
              </a:rPr>
              <a:t> the base fact t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mallest-child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 cuboid from the smallest, previously computed cuboi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Cache-resul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caching results of a cuboid from which other cuboids are computed to reduce disk I/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Amortize-sca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s many as possible cuboids at the same time to amortize disk rea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sor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sharing sorting costs cross multiple cuboids when sort-based method is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partitio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sharing the partitioning cost across multiple cuboids when hash-based algorithms are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4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954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 do not have to be disj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ragment groupings can be arbitrary to allow for maximum online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7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Known common combinations (e.g.,&lt;city, state&gt;) should be grouped togeth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 sizes can be adjusted for optimal balance between offline and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D_Measure Tabl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measures other th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re present, store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D_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able separate from the shell fra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2362320" y="2666880"/>
            <a:ext cx="4647600" cy="2895480"/>
            <a:chOff x="2362320" y="2666880"/>
            <a:chExt cx="4647600" cy="2895480"/>
          </a:xfrm>
        </p:grpSpPr>
        <p:sp>
          <p:nvSpPr>
            <p:cNvPr id="666" name=""/>
            <p:cNvSpPr/>
            <p:nvPr/>
          </p:nvSpPr>
          <p:spPr>
            <a:xfrm>
              <a:off x="5646960" y="50785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911040" y="50785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362320" y="50785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646960" y="45964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911040" y="45964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362320" y="45964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646960" y="41140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911040" y="41140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362320" y="41140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646960" y="36313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911040" y="36313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362320" y="36313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646960" y="31492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7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911040" y="31492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362320" y="31492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646960" y="26668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s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11040" y="26668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ou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362320" y="26668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362320" y="2666880"/>
              <a:ext cx="46461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362320" y="31492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362320" y="36313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362320" y="41140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362320" y="45964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362320" y="50785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362320" y="5561280"/>
              <a:ext cx="46461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362320" y="2666880"/>
              <a:ext cx="108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91104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64696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008480" y="2666880"/>
              <a:ext cx="144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Frag-Shells Algorith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-179640" y="1260360"/>
            <a:ext cx="9180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set of dimension 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 into a set 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fragments 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can base table once and do the follow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sert &lt;tid, measure&gt; into ID_measure ta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attribute value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each dimension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inverted index entry &lt;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tidlist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fragment partition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local fragment cube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by intersecting tid-lists in bottom-up fash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7121520" y="4452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rag-Shell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1219320" y="2711520"/>
            <a:ext cx="2895120" cy="516960"/>
            <a:chOff x="1219320" y="2711520"/>
            <a:chExt cx="2895120" cy="516960"/>
          </a:xfrm>
        </p:grpSpPr>
        <p:sp>
          <p:nvSpPr>
            <p:cNvPr id="700" name=""/>
            <p:cNvSpPr/>
            <p:nvPr/>
          </p:nvSpPr>
          <p:spPr>
            <a:xfrm>
              <a:off x="369900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28680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87244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459880" y="2711520"/>
              <a:ext cx="4125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0455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63332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2193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219320" y="2711520"/>
              <a:ext cx="28940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219320" y="3227040"/>
              <a:ext cx="28940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21932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63332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045520" y="2711520"/>
              <a:ext cx="144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45988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87244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2868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6990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11336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7" name=""/>
          <p:cNvSpPr/>
          <p:nvPr/>
        </p:nvSpPr>
        <p:spPr>
          <a:xfrm rot="16200000">
            <a:off x="171144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rot="16200000">
            <a:off x="300672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2952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6668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3136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A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6690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3505320" y="3355920"/>
            <a:ext cx="1218960" cy="88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876920" y="2320920"/>
            <a:ext cx="3124080" cy="308916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590440" y="228600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371200" y="2556000"/>
            <a:ext cx="11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EF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191920" y="281952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E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4952880" y="3124080"/>
            <a:ext cx="2395440" cy="1614240"/>
            <a:chOff x="4952880" y="3124080"/>
            <a:chExt cx="2395440" cy="1614240"/>
          </a:xfrm>
        </p:grpSpPr>
        <p:sp>
          <p:nvSpPr>
            <p:cNvPr id="729" name=""/>
            <p:cNvSpPr/>
            <p:nvPr/>
          </p:nvSpPr>
          <p:spPr>
            <a:xfrm>
              <a:off x="5846040" y="441828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952880" y="441828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846040" y="4080240"/>
              <a:ext cx="15008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5, 10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952880" y="4080240"/>
              <a:ext cx="89316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2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846040" y="37616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2, 4, 6, 7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952880" y="37616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846040" y="34430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1, 3, 8, 9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952880" y="34430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846040" y="3124080"/>
              <a:ext cx="150084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uple-ID Lis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952880" y="3124080"/>
              <a:ext cx="89316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ell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952880" y="34430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952880" y="37616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952880" y="408024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952880" y="47372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952880" y="3124080"/>
              <a:ext cx="144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8460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441828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952880" y="312408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3472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8" name=""/>
          <p:cNvSpPr/>
          <p:nvPr/>
        </p:nvSpPr>
        <p:spPr>
          <a:xfrm>
            <a:off x="1935360" y="228600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8742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 query has the general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ach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has 3 possibl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ggregate *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quire ?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                               returns a 2-D data cub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5257800" y="1676520"/>
                <a:ext cx="213372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2895480" y="4764240"/>
                <a:ext cx="29656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3</m:t>
                                    </m:r>
                                  </m:e>
                                  <m:e>
                                    <m:r>
                                      <m:t xml:space="preserve">?</m:t>
                                    </m:r>
                                  </m:e>
                                </m:mr>
                              </m:m>
                            </m:e>
                            <m:e>
                              <m:r>
                                <m:t xml:space="preserve">?</m:t>
                              </m:r>
                            </m:e>
                            <m:e/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coun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95492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0480" indent="-6004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the fragment cubes, process a query as follow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query into fragment, same as the sh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etch the corresponding TID list for each fragment from the fragment cub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ersect the TID lists from each fragment to construct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base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the data cube using the base table with any cubing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3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1066680" y="2057400"/>
            <a:ext cx="6210000" cy="517320"/>
            <a:chOff x="1066680" y="2057400"/>
            <a:chExt cx="6210000" cy="517320"/>
          </a:xfrm>
        </p:grpSpPr>
        <p:sp>
          <p:nvSpPr>
            <p:cNvPr id="757" name=""/>
            <p:cNvSpPr/>
            <p:nvPr/>
          </p:nvSpPr>
          <p:spPr>
            <a:xfrm>
              <a:off x="68608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446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32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618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203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790160" y="2057400"/>
              <a:ext cx="413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375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961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547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13452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720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307960" y="2057400"/>
              <a:ext cx="4122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8936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48068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0666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066680" y="205740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066680" y="257364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06668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4806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8936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3079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720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134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547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27524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961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3758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7901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20380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618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032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446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8608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0" name=""/>
          <p:cNvSpPr/>
          <p:nvPr/>
        </p:nvSpPr>
        <p:spPr>
          <a:xfrm rot="16200000">
            <a:off x="1558800" y="225360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rot="16200000">
            <a:off x="2854440" y="225396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1430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5146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rot="16200000">
            <a:off x="40734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7339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rot="16200000">
            <a:off x="5292720" y="224748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95288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rot="16200000">
            <a:off x="65880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2485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143000" y="37339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514600" y="35053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733920" y="3809880"/>
            <a:ext cx="685800" cy="18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952880" y="36576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248520" y="34290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1828800" y="35020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V="1">
            <a:off x="3200400" y="32734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4419720" y="357840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V="1">
            <a:off x="5638680" y="34254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6934320" y="31968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334120" y="4724280"/>
            <a:ext cx="1904760" cy="160020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On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C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114800" y="5410080"/>
            <a:ext cx="838080" cy="381240"/>
          </a:xfrm>
          <a:prstGeom prst="rightArrow">
            <a:avLst>
              <a:gd name="adj1" fmla="val 50000"/>
              <a:gd name="adj2" fmla="val 5495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143000" y="4724280"/>
            <a:ext cx="2590920" cy="1600200"/>
          </a:xfrm>
          <a:prstGeom prst="flowChartInternalStorage">
            <a:avLst/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Instantia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Base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523880" y="3809880"/>
            <a:ext cx="1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1825200" y="3581280"/>
            <a:ext cx="10731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H="1">
            <a:off x="2435400" y="3886200"/>
            <a:ext cx="1530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3044520" y="3733920"/>
            <a:ext cx="23684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3501720" y="3505320"/>
            <a:ext cx="28256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34876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Dimensionality (50 and 100 cardinality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1218960" y="6019920"/>
            <a:ext cx="70102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0 skew, 50 cardinality, fragment size 3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 skew, 100 cardinality, fragment size 2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20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440" y="-3240"/>
            <a:ext cx="7792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2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3" name=""/>
          <p:cNvSpPr/>
          <p:nvPr/>
        </p:nvSpPr>
        <p:spPr>
          <a:xfrm>
            <a:off x="1371600" y="6019920"/>
            <a:ext cx="7162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50 dimensions, 0 skew, 50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0 dimensions, 2 skew, 25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74872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Run-tim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5" name="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826" name=""/>
          <p:cNvSpPr/>
          <p:nvPr/>
        </p:nvSpPr>
        <p:spPr>
          <a:xfrm>
            <a:off x="1905120" y="6019920"/>
            <a:ext cx="6172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ity, skew 1, fragment size 3, 3 instantiated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57960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Array-based </a:t>
            </a:r>
            <a:r>
              <a:rPr b="0" lang="en-US" sz="2600" spc="-1" strike="noStrike">
                <a:solidFill>
                  <a:srgbClr val="006666"/>
                </a:solidFill>
                <a:latin typeface="Tahoma"/>
                <a:ea typeface="SimSun"/>
              </a:rPr>
              <a:t>“bottom-up”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 algorithm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Using multi-dimensional chunk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No direct tuple comparis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Simultaneous aggregation on multiple dimensi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Intermediate aggregate values are re-used for computing ancestor cuboid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056280" y="2303640"/>
          <a:ext cx="2943360" cy="32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56280" y="2303640"/>
                    <a:ext cx="294336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27080" y="498600"/>
            <a:ext cx="887256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 I/O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8" name="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9" name=""/>
          <p:cNvSpPr/>
          <p:nvPr/>
        </p:nvSpPr>
        <p:spPr>
          <a:xfrm>
            <a:off x="762120" y="5940360"/>
            <a:ext cx="79246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4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2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ty, 1 skew, 3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79280" y="-171720"/>
            <a:ext cx="89647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Experiment: I/O vs. # of Instantiated Dimens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31" name="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5257800" cy="3943440"/>
          </a:xfrm>
          <a:prstGeom prst="rect">
            <a:avLst/>
          </a:prstGeom>
          <a:ln w="0">
            <a:noFill/>
          </a:ln>
        </p:spPr>
      </p:pic>
      <p:sp>
        <p:nvSpPr>
          <p:cNvPr id="832" name=""/>
          <p:cNvSpPr/>
          <p:nvPr/>
        </p:nvSpPr>
        <p:spPr>
          <a:xfrm>
            <a:off x="1828800" y="5943600"/>
            <a:ext cx="6095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fragment size 1, 7 total relevant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Efficient algorithms for computing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Multiway array aggreg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BU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tar-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 OLAP by minimal 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References (I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0" y="1260360"/>
            <a:ext cx="9144000" cy="54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Agarwal, R. Agrawal, P. M. Deshpande, A. Gupta, J. F. Naughton, R. Ramakrishnan, and S. Sarawagi.  On the computation of multidimensional aggregates. VLDB’9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D. Agrawal, A. E. Abbadi, A. Singh, and T. Yurek. Efficient view maintenance in data warehous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R. Agrawal, A. Gupta, and S. Sarawagi. Modeling multidimensional databases.  ICDE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K. Beyer and R. Ramakrishnan. Bottom-Up Computation of Sparse and Iceberg CUBEs.. SIGMOD’99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Y. Chen, G. Dong, J. Han, B. W. Wah, and J. Wang, Multi-Dimensional Regression Analysis of Time-Series Data Streams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G. Dong, J. Han, J. Lam, J. Pei, K. Wang. Mining Multi-dimensional Constrained Gradients in Data Cubes. VLDB’ 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J. Han, Y. Cai and N. Cercone, Knowledge Discovery in Databases: An Attribute-Oriented Approach, VLDB'9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J. Han, J. Pei, G. Dong, K. Wang. Efficient Computation of Iceberg Cubes With Complex Measures. SIGMOD’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References (II)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51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L. V. S. Lakshmanan, J. Pei, and J. Han, Quotient Cube: How to Summarize the Semantics of a Data Cube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X. Li, J. Han, and H. Gonzalez, High-Dimensional OLAP: A Minimal Cubing Approach, VLDB'0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Ross and D. Srivastava.  Fast computation of sparse datacubes. VLDB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A. Ross, D. Srivastava, and D. Chatziantoniou. Complex aggregation at multiple granulariti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Sarawagi, R. Agrawal, and N. Megiddo. Discovery-driven exploration of OLAP data cub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G. Sathe and S. Sarawagi. Intelligent Rollups in Multidimensional OLAP Data.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VLDB'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X. Li, B. W. Wah, Star-Cubing: Computing Iceberg Cubes by Top-Down and Bottom-Up Integration, VLDB'0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Z. Shao, H. Liu,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C-Cubing: Efficient Computation of Closed Cubes by Aggregation-Based Checking, ICDE'0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W. Wang, H. Lu, J. Feng, J. X. Yu, Condensed Cube: An Effective Approach to Reducing Data Cube Size. ICDE’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Y. Zhao, P. M. Deshpande, and J. F. Naughton. An array-based algorithm for simultaneous multidimensional aggregat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150840"/>
            <a:ext cx="746784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MOLAP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37760" y="1260360"/>
            <a:ext cx="83818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arrays into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SimSun"/>
              </a:rPr>
              <a:t>chunk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(a small subcube which fits in memory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ressed sparse array addressing: (chunk_id, offset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aggregates in “multiway” by visiting cube cells in the order which minimizes the # of times to visit each cell, and reduces memory access and storage co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5943600" y="3886200"/>
            <a:ext cx="236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SimSun"/>
              </a:rPr>
              <a:t>What is the best traversing order to do multi-way aggreg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50800" y="3419640"/>
            <a:ext cx="4832640" cy="3218400"/>
            <a:chOff x="550800" y="3419640"/>
            <a:chExt cx="4832640" cy="3218400"/>
          </a:xfrm>
        </p:grpSpPr>
        <p:sp>
          <p:nvSpPr>
            <p:cNvPr id="115" name=""/>
            <p:cNvSpPr/>
            <p:nvPr/>
          </p:nvSpPr>
          <p:spPr>
            <a:xfrm>
              <a:off x="2565720" y="630252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09400" y="41446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70400" y="49143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370400" y="444888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370400" y="398412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14800" y="508536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14800" y="462204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14800" y="4158720"/>
              <a:ext cx="925200" cy="569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57760" y="52614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57760" y="479844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57760" y="433332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6136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0432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8720" y="3884400"/>
              <a:ext cx="9284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3104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7544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18760" y="38844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0072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4692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8808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37220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1480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5776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307880" y="543456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07880" y="49698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07880" y="450612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75760" y="543456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075760" y="49698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075760" y="450612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84544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4544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4544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61656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61656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1656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307880" y="405720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77200" y="4057200"/>
              <a:ext cx="9270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46880" y="405720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27720" y="404928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626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3556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4052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18140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218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39796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436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94344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21800" y="52124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621800" y="47584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275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40228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7520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9477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7206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4776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7520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022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8884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1772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94336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7080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2344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1388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967760" y="34635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70760" y="36129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436400" y="380952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199520" y="39524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81800" y="43441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81800" y="4785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81800" y="52218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081800" y="5712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91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56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80360" y="3419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50800" y="4931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20840" y="44442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23840" y="46378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154120" y="4733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920840" y="4931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625280" y="5075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154120" y="51775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860360" y="53200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625280" y="5515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54120" y="4247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4920" y="225360"/>
            <a:ext cx="66294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927160" y="2492280"/>
            <a:ext cx="3935520" cy="3096000"/>
            <a:chOff x="2927160" y="2492280"/>
            <a:chExt cx="3935520" cy="3096000"/>
          </a:xfrm>
        </p:grpSpPr>
        <p:sp>
          <p:nvSpPr>
            <p:cNvPr id="201" name=""/>
            <p:cNvSpPr/>
            <p:nvPr/>
          </p:nvSpPr>
          <p:spPr>
            <a:xfrm>
              <a:off x="4279320" y="52830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250440" y="32025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948640" y="389448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948640" y="3444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948640" y="29937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15000" y="40611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715000" y="361260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715000" y="316332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478480" y="423288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478480" y="378360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78480" y="3331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32920" y="2560320"/>
              <a:ext cx="8488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598560" y="27284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62040" y="2898360"/>
              <a:ext cx="85176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37440" y="2560320"/>
              <a:ext cx="8503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303080" y="272844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68000" y="289836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24412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10480" y="2728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73960" y="2898360"/>
              <a:ext cx="8470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95008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715000" y="27284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478480" y="2898360"/>
              <a:ext cx="8488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1413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1413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1413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45880" y="439920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45880" y="395028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45880" y="349956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51840" y="439920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51840" y="395028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51840" y="34995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2581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2581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581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42800" y="30650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47320" y="30650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51840" y="3065040"/>
              <a:ext cx="8503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267880" y="3057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63816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3459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0551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7643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272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346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9140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55012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27200" y="42073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27200" y="37692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42684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1331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8423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55012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2593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5501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423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1331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04692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3736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63104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92040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0611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124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35720" y="251424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466440" y="2657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249000" y="2846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034800" y="2989080"/>
              <a:ext cx="24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927160" y="33663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927160" y="37915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927160" y="42170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27160" y="4689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7642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669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927520" y="249228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441840" y="34617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170400" y="3648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657840" y="37440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441840" y="39344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170400" y="40741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657840" y="41691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387840" y="43106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170400" y="4500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657840" y="3270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30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19320" y="150840"/>
            <a:ext cx="624816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"/>
          <p:cNvSpPr/>
          <p:nvPr/>
        </p:nvSpPr>
        <p:spPr>
          <a:xfrm>
            <a:off x="4280400" y="528480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251160" y="3203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950080" y="389556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950080" y="344484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950080" y="299412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716440" y="406224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16440" y="361332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16440" y="3164040"/>
            <a:ext cx="8478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479920" y="423396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79920" y="378468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479920" y="333216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33640" y="2560680"/>
            <a:ext cx="8496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598920" y="27288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362400" y="2898720"/>
            <a:ext cx="85248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538520" y="2560680"/>
            <a:ext cx="8510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303800" y="2728800"/>
            <a:ext cx="85068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068720" y="289872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24520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011560" y="272880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775040" y="2898720"/>
            <a:ext cx="8478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95152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716440" y="272880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479920" y="2898720"/>
            <a:ext cx="8496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14172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14172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4172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46600" y="440064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46600" y="395136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46600" y="3500280"/>
            <a:ext cx="85068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552920" y="440064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552920" y="395136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552920" y="3500280"/>
            <a:ext cx="84924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25924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25924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25924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143160" y="306540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48040" y="30654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552920" y="3065400"/>
            <a:ext cx="8510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68960" y="305748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3852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664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5620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6576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427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3532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1508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551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427560" y="42084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427560" y="37702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27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13388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84344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551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26112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55156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84344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13388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04836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3880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63248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112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06224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41280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736800" y="251460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466800" y="2657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49360" y="2846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035160" y="2989440"/>
            <a:ext cx="243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927520" y="3367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927520" y="37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927520" y="42181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927520" y="4691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76568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46876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927520" y="249228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443640" y="34624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172200" y="3649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659640" y="3745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443640" y="39355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172200" y="40752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659640" y="41702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389640" y="43117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172200" y="4502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659640" y="3271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43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6576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5053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895480" y="57913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1337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4479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32767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14400" y="4267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62120" y="4343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914400" y="41148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62120" y="4191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62120" y="38098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14400" y="37339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62120" y="3962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914400" y="38862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447920" y="48769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5053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895480" y="53341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1337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4479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5720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343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8862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505320" y="2057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2004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791320" y="19810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2578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0292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79280" y="190440"/>
            <a:ext cx="86407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Cont.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38188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Method: the planes should be sorted and computed according to their size in ascending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00ff"/>
                </a:solidFill>
                <a:latin typeface="Tahoma"/>
                <a:ea typeface="SimSun"/>
              </a:rPr>
              <a:t>Idea: keep the smallest plane in the main memory, fetch and compute only one chunk at a time for the largest pla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imitation of the method: computing well only for a small number of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re are a large number of dimensions, “</a:t>
            </a:r>
            <a:r>
              <a:rPr b="0" lang="en-US" sz="2400" spc="-1" strike="noStrike">
                <a:solidFill>
                  <a:srgbClr val="006666"/>
                </a:solidFill>
                <a:latin typeface="Tahoma"/>
                <a:ea typeface="SimSun"/>
              </a:rPr>
              <a:t>top-dow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” computation and iceberg cube computation methods can be expl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ottom-Up Computation (BUC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5002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Divides dimensions into segments and facilitates iceberg pru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a partition does not satisf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_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, its descendants can be pruned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= 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compute full CUB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No simultaneous aggreg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5486400" y="1295280"/>
          <a:ext cx="304812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1295280"/>
                    <a:ext cx="304812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3" name=""/>
          <p:cNvGraphicFramePr/>
          <p:nvPr/>
        </p:nvGraphicFramePr>
        <p:xfrm>
          <a:off x="5257800" y="3809880"/>
          <a:ext cx="3657600" cy="281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3809880"/>
                    <a:ext cx="3657600" cy="28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iawei Han</dc:creator>
  <dc:description/>
  <dc:language>en-US</dc:language>
  <cp:lastModifiedBy>Weifa Liang</cp:lastModifiedBy>
  <dcterms:modified xsi:type="dcterms:W3CDTF">2009-03-29T05:23:55Z</dcterms:modified>
  <cp:revision>29</cp:revision>
  <dc:subject/>
  <dc:title>No Slide Title</dc:title>
</cp:coreProperties>
</file>